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52.wmf" ContentType="image/x-wmf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2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50.png" ContentType="image/png"/>
  <Override PartName="/ppt/media/image8.wmf" ContentType="image/x-wmf"/>
  <Override PartName="/ppt/media/image39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12.wmf" ContentType="image/x-wmf"/>
  <Override PartName="/ppt/media/image49.jpeg" ContentType="image/jpeg"/>
  <Override PartName="/ppt/media/image20.jpeg" ContentType="image/jpeg"/>
  <Override PartName="/ppt/media/image43.jpeg" ContentType="image/jpeg"/>
  <Override PartName="/ppt/media/image48.jpeg" ContentType="image/jpeg"/>
  <Override PartName="/ppt/media/image53.jpeg" ContentType="image/jpeg"/>
  <Override PartName="/ppt/media/image3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9.wmf" ContentType="image/x-wmf"/>
  <Override PartName="/ppt/media/image7.wmf" ContentType="image/x-wmf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2AA-9E75-4DA7-885D-D08273BA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FC9-D57F-48D0-AA6D-0BB41F4E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890-778F-400C-AA9E-E4191BD7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74B-4C21-4275-B65E-9460CBE7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154-441C-4B84-85DE-BC59C45A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73F5-9C9A-473B-99BB-3929D5B8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33D-99D4-414B-ACA2-C05A3A1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088C-8166-42A5-A777-F2B250F0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6834-9550-4EC2-AAD7-FB78491B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665A-D62E-4D09-8CE8-33B5539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413-78EF-4D34-962F-CB3C04F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21B-8422-4551-9960-BE3B06F7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406F-D098-455C-997C-D680893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F4CA-CAB5-4E9B-8F55-0F5CB91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373B-99D9-47CC-B83F-6EF9D75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359F-9B77-4F23-BD96-B8F3BB06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D946-E7C7-41F2-996D-615B07D5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7A8-99DC-4D62-814D-FDD1B27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1D4-DA15-4722-A8B2-AA05338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E40-9945-41BA-9B61-A7A3B10B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62B-6849-4231-9C17-62511F40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B86-A7A0-4B18-90C7-AA67EEE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208-3524-477B-8E84-DEDBD0A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6E0-A97F-4BE9-BBD3-EBB9C05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44A2-F4E3-4408-9ACD-D2D05CC084C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975F-D895-41D9-A9A7-4FC7FE8C7C3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66"/>
                </a:solidFill>
                <a:latin typeface="Arial"/>
              </a:rPr>
              <a:t>100 People / 100 Days</a:t>
            </a:r>
            <a:br>
              <a:rPr sz="5400"/>
            </a:br>
            <a:r>
              <a:rPr b="0" lang="en-US" sz="5400" spc="-1" strike="noStrike">
                <a:solidFill>
                  <a:srgbClr val="cc0066"/>
                </a:solidFill>
                <a:latin typeface="Arial"/>
              </a:rPr>
              <a:t>Team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sentation to Faculty Memb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hlone College, Fremont, C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xed Day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ugust 13, 2004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88DE-6DFB-4859-A2CB-147DAC9737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pring 2000:  Ohlone College’s Smoking Policy: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20 foot reasonable distance educational campaign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2546280"/>
            <a:ext cx="5867640" cy="37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FDF-B15C-4F68-B352-4E36A2AB9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685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pring 2001: Designated Smoking Areas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Petition Campaig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3141720" cy="431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2209680"/>
            <a:ext cx="38862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RSS Club members conducted a petition campaign to garner support for designated smoking area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To create designated smoking areas on camp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atures collected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561 signatu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1442880" cy="14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EFC-8367-4D47-874A-213904D9F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pring 2002: Our partner in crime: Ciggybuttz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tudent Health Center received funding from ASOC to purchase Ciggybuttz ($600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iggybuttz’s purpose is to educate students on the current smoking policy as well as issue policy violators citation warning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27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Name:    Ciggy Buttz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Born:     December 28, 200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eight:   6ft 8inch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ight:  8.5 pound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429000" cy="2668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9D2-E8FF-4FBD-8A8E-08C1049DCF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pring 2002: Ciggybuttz Citation Warning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1828800"/>
            <a:ext cx="37339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ront of the citation warnings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itation warning cards serve as a great educational tool to inform students of the smoking policy.  On the very bottom of the citation, it states the following: “Had this been an actual citation you have received a $75 fine.”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952880"/>
            <a:ext cx="33530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Back of the citation warnings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We offer information on how we can help students quit smoking by promoting the health center’s services as well as the California Smoker’s Helpline.   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3809880"/>
            <a:ext cx="3962520" cy="278136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657600" cy="2446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1676520"/>
            <a:ext cx="3886200" cy="281916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276360" cy="249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492-1279-477D-8F92-1EB5DBF51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609480"/>
            <a:ext cx="79869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2000 - present: STARSS making headli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29200" y="4818240"/>
            <a:ext cx="3352680" cy="2039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76720" y="2819520"/>
            <a:ext cx="5867280" cy="698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3675240" cy="83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85800" y="2666880"/>
            <a:ext cx="255420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9320" y="1447920"/>
            <a:ext cx="2827080" cy="1149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914400" y="4038480"/>
            <a:ext cx="2575080" cy="243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52B-D1F0-4B13-A699-DD3F99C138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6120" y="828720"/>
            <a:ext cx="73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all 2002: Smoking cessation postc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676520"/>
            <a:ext cx="327636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257800" y="1905120"/>
            <a:ext cx="3048120" cy="1931760"/>
            <a:chOff x="5257800" y="1905120"/>
            <a:chExt cx="3048120" cy="193176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257800" y="1905120"/>
              <a:ext cx="304812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5257800" y="1905120"/>
              <a:ext cx="3048120" cy="193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57200" indent="-457200">
                <a:lnSpc>
                  <a:spcPct val="100000"/>
                </a:lnSpc>
                <a:spcBef>
                  <a:spcPts val="700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257800" y="4114800"/>
            <a:ext cx="3352680" cy="243828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486400" y="4267080"/>
            <a:ext cx="2895480" cy="20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5800" y="2209680"/>
            <a:ext cx="4038480" cy="28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B13-AF0B-4595-A21C-1540A867E4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1900080"/>
            <a:ext cx="2590920" cy="2046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1320" y="1952640"/>
            <a:ext cx="2590560" cy="199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514600" cy="1933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715000" y="4308480"/>
            <a:ext cx="3048120" cy="234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43000" y="685800"/>
            <a:ext cx="73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Fall 2002: Successfully advocated for designated smoking areas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352680" y="2133720"/>
          <a:ext cx="1295280" cy="53316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b5249"/>
                          </a:solidFill>
                          <a:latin typeface="Arial"/>
                        </a:rPr>
                        <a:t>Patio corner of building 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72000" y="2971800"/>
          <a:ext cx="1143000" cy="7365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b5249"/>
                          </a:solidFill>
                          <a:latin typeface="Arial"/>
                        </a:rPr>
                        <a:t>Southwest corner of building 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191120"/>
          <a:ext cx="1295280" cy="72864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b5249"/>
                          </a:solidFill>
                          <a:latin typeface="Arial"/>
                        </a:rPr>
                        <a:t>South side of building 5 by fountain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343400" y="5486400"/>
          <a:ext cx="1143000" cy="7621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b5249"/>
                          </a:solidFill>
                          <a:latin typeface="Arial"/>
                        </a:rPr>
                        <a:t>North side of Hyman Hall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73C-26C6-4B03-B7D9-EAD84F0F9A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Fall 2002: STARSS Showcase  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ARSS Club kick-off event to celebrate the new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signated smoking areas’ policy, November 200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320040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276360" cy="2236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3236760" cy="2117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495680" y="4470480"/>
            <a:ext cx="3200400" cy="21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E33-0AB0-4C43-9D0E-2C52F6B69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Fall 2002: Tobacco-free Fun Run / Walk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143000"/>
            <a:ext cx="739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 2 mile run / walk around the campus perimeter; tobacco education and smoking policy messages posted throughout the cours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352680" cy="2256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3581280" cy="2424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791320" y="4630680"/>
            <a:ext cx="2895480" cy="2227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38080" y="4334040"/>
            <a:ext cx="4419720" cy="252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238-C188-4AEE-AA12-3A3F5FAE08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024440" cy="5562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pring 2003: Legislative visits and support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ARSS Group met with State Senator Liz Figueroa to advocate for increase in tobacco tax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nator Figueroa sent STARSS a letter of support for a smoke-free campu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ARSS members participated in legislative meeting with Assembly Member John Dutra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0D3-E1F7-4948-8620-523B85D4D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resenters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42280" indent="-242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r. Treadwa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esident, Ohlone Colleg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42280" indent="-242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ally Bratton, RN, FNP, PA-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irector, Ohlone Student Health Cent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rse Practition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42280" indent="-2422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ang Leng Trieu, MPH, C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ealth Education Coordina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ARSS Project Coordina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242280" indent="-2422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Violetta Waters, M.A.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cal Assista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ARSS ICC Representativ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54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FD2-DD65-42C1-92DF-219C11365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362320" cy="1817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362320" cy="1816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477120" y="4114800"/>
            <a:ext cx="2361960" cy="1817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520" y="7621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Fall 2003: Elimination of building one designated smoking ar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038480" y="2819520"/>
            <a:ext cx="1143000" cy="736560"/>
            <a:chOff x="4038480" y="2819520"/>
            <a:chExt cx="1143000" cy="736560"/>
          </a:xfrm>
        </p:grpSpPr>
        <p:sp>
          <p:nvSpPr>
            <p:cNvPr id="177" name=""/>
            <p:cNvSpPr/>
            <p:nvPr/>
          </p:nvSpPr>
          <p:spPr>
            <a:xfrm>
              <a:off x="4038480" y="2819520"/>
              <a:ext cx="1143000" cy="7365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</a:rPr>
                <a:t>Southwest corner of building 4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2819520"/>
              <a:ext cx="1143000" cy="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3556080"/>
              <a:ext cx="1143000" cy="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38480" y="2819520"/>
              <a:ext cx="0" cy="73656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2819520"/>
              <a:ext cx="0" cy="73656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066680" y="2819520"/>
            <a:ext cx="1295280" cy="728640"/>
            <a:chOff x="1066680" y="2819520"/>
            <a:chExt cx="1295280" cy="728640"/>
          </a:xfrm>
        </p:grpSpPr>
        <p:sp>
          <p:nvSpPr>
            <p:cNvPr id="183" name=""/>
            <p:cNvSpPr/>
            <p:nvPr/>
          </p:nvSpPr>
          <p:spPr>
            <a:xfrm>
              <a:off x="1066680" y="2819520"/>
              <a:ext cx="1295280" cy="728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</a:rPr>
                <a:t>South side of building 5 by fountain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2819520"/>
              <a:ext cx="1295280" cy="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6680" y="3548160"/>
              <a:ext cx="1295280" cy="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2819520"/>
              <a:ext cx="0" cy="72864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61960" y="2819520"/>
              <a:ext cx="0" cy="72864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086600" y="2895480"/>
            <a:ext cx="1143000" cy="762120"/>
            <a:chOff x="7086600" y="2895480"/>
            <a:chExt cx="1143000" cy="762120"/>
          </a:xfrm>
        </p:grpSpPr>
        <p:sp>
          <p:nvSpPr>
            <p:cNvPr id="189" name=""/>
            <p:cNvSpPr/>
            <p:nvPr/>
          </p:nvSpPr>
          <p:spPr>
            <a:xfrm>
              <a:off x="7086600" y="2895480"/>
              <a:ext cx="1143000" cy="76212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b5249"/>
                  </a:solidFill>
                  <a:latin typeface="Arial"/>
                </a:rPr>
                <a:t>North side of Hyman Hall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86600" y="2895480"/>
              <a:ext cx="1143000" cy="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600" y="3657600"/>
              <a:ext cx="1143000" cy="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86600" y="2895480"/>
              <a:ext cx="0" cy="76212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29600" y="2895480"/>
              <a:ext cx="0" cy="762120"/>
            </a:xfrm>
            <a:prstGeom prst="line">
              <a:avLst/>
            </a:prstGeom>
            <a:ln cap="sq"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148560" y="198108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maining are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875-257E-4191-8EBE-1F78169922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10080" y="4114800"/>
            <a:ext cx="3353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Proclamation from the 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ity of Fremont Mayor’s Offic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May 2004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9252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09D-17F1-4D16-9EC7-6964601BA3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41680" y="2133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Ohlone College New Smoking Polic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Arial"/>
              </a:rPr>
              <a:t>10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.1.1 (Board) Policy on Smoking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(Effective: June 1, 2004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A.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Legal Authority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: The Board approved a motion delegating the approval of this (smoking) policy to the President/Superintendent at the October 9, 1974, Board meeting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B.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(Administrative) Regulations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Ohlone College is a designated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moke Free College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. Smoking is prohibited in all college vehicles, buildings, indoor and outdoor facilities, handicapped parking and all open areas except for general use parking lots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This regulation applies to all properties and facilities owned or leased by the Ohlone Community College District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0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710-3868-4F6E-858B-23505D145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moke-free Campus Policy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Press Conference, May 2004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429000" cy="2298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4635360"/>
            <a:ext cx="3353040" cy="222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581280" cy="2394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405320" y="4419720"/>
            <a:ext cx="4738680" cy="802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994-703B-4AA5-92B0-4C0CAEB80B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Educational Interventio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ew smoke-free campus policy postcar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ew signage around campu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 smoking beyond this point” lines painted around campus perimeter and parking lot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25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00 People / 100 Days volunteer program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 algn="just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6DA-DB96-4044-89AB-524C86E448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New smoke-free campus policy postcard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897600" cy="47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CA3-1D48-469A-BB5A-F61E477D66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New signage around camp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2210040" cy="2759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781360" cy="4456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8800" y="4952880"/>
            <a:ext cx="2994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moking policy printed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 bookstore bag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31C-B2B4-4F8C-B128-B831215068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505320" cy="2306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2736720" cy="4445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905120" y="4343400"/>
            <a:ext cx="335268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676520" y="914400"/>
            <a:ext cx="594360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3FB-D35F-459C-B750-472FDFF7B5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00 People / 100 Days Team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95136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048120" y="5638680"/>
            <a:ext cx="32004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o Join 100 People /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00 Days Tea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49E-942B-42A4-AE57-A3D39D9AB1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00 People / 100 Days Team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Arial"/>
              </a:rPr>
              <a:t>Purpose: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mpus-based volunteer group organized to help educate the students, staff, and faculty about the smoke-free campus polic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Arial"/>
              </a:rPr>
              <a:t>Rationale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o successfully implement and enforce the policy, we need campus-wide involvement and ownership of the polic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389-8A64-4562-B65A-847A6EDF66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Presentation Over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roduction of 100 People / 100 Day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r. Treadwa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rief overview of the progr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ally Bratt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ckground of the STARSS Projec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ang Leng Trieu &amp; Violetta Waters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Questions &amp; Answer sess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ally Bratt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6BC-2C23-40B5-BA9B-4CA51B1C79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00 People / 100 Days Team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4 hours of flex credit for faculty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rogram will begin on August 16 and culminate with the Great American Smoke-out on November 18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Each member will receive a Starter’s Kit which will contain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-shir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Whistle / lanyard, Policy Promoter butt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Instructions, map of smoking are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Postcards, list of possible FAQs, wall poster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0F0-B234-49B1-BDE6-883C1C29A3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00 Days Celebration / Evaluatio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Celebration party put on by the President’s Offi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Student Health Center / STARSS Club will put on another fun run event, to fall on the Great American Smoke-out Day (November 18, 200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articipating faculty members who would like flex credit will be asked to submit bi-weekly tracking forms, which will be provided by the Student Health Cent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600-D41D-4E52-A0B4-3E05E54546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Recruiting Stud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would appreciate any faculty member that would give students extra credit for participating in the 100 People / 100 Days program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E6D-CEF0-4BEF-ACBC-F237E8C504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act the Student Health Center                 at 659-6258 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udenthealth@ohlone.edu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bratton@ohlone.edu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713-B9D3-4AA7-9E30-02DA518087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800600" cy="2914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320120" y="990720"/>
            <a:ext cx="715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ease support our efforts in enforcing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moke-free Ohlone campu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C09-480A-4D12-A6B0-CA4D167027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52680" y="-185760"/>
            <a:ext cx="6038640" cy="72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386-D532-4A60-BFB0-FA8E26D4D4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udent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2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war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3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lvl="3" marL="154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id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185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ke-fre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4" marL="185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oo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75752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44800" y="971640"/>
            <a:ext cx="32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Arial"/>
              </a:rPr>
              <a:t>STARSS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175752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77120" y="4114800"/>
            <a:ext cx="2516040" cy="231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06B-6DE3-4043-BCD7-9098241C43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Tobacco’s toll in the 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Smoking is the most preventable cause of death in the U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1 in 5 of all deaths in the US are caused by tobacco us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Over 400,000 Americans die each year from tobacco-related disease - more than from AIDS, alcohol, car accidents, murders, suicides, and fires combined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CDB-71EE-4BF8-A3C5-ABB21331B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Smoking Prevalence in Californ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7% of Californians smok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1% of males smok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4% of females smok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18-24 age group experienced the greatest increase in smoking prevalence than any other age group in recent years*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6% dail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8% occasional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86480" y="2101680"/>
            <a:ext cx="269388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7400" y="61722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200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41D-A166-4FB4-ACBA-1815D200B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57200" y="838080"/>
          <a:ext cx="83818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381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2F0-C24C-4CFB-BE83-48A7AA70F7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09480" y="1828800"/>
          <a:ext cx="800100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6640" y="91440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ronger policies = Less Ohlone students / staff smok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57E-1836-4691-AA4C-B528E0C11E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219320"/>
            <a:ext cx="449604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TARSS’s journey towards a smoke-free campu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2000 - present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425680" cy="43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E8C-A49C-4818-B31E-C9FB2DA093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17:55Z</dcterms:created>
  <dc:creator>Sang</dc:creator>
  <dc:description/>
  <dc:language>en-US</dc:language>
  <cp:lastModifiedBy>Faculty/Staff User</cp:lastModifiedBy>
  <dcterms:modified xsi:type="dcterms:W3CDTF">2005-09-21T19:34:09Z</dcterms:modified>
  <cp:revision>110</cp:revision>
  <dc:subject/>
  <dc:title>Tobacco-free Road on College Campuses </dc:title>
</cp:coreProperties>
</file>