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A66C-5D0C-4DB8-9B60-5A6569C5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2C29-2D0F-458C-A7BA-C88CE17E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B9A-846A-4B74-AECD-E224DCAA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4B32-7892-4C30-83EA-F9D08C7F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CB1E-1555-4A19-B6AB-3D4A061E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EFBA-258B-43DA-8378-3145B99B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4554-904A-498A-8D62-C996AA6F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C16E-952F-4470-B83E-63E97230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A7F5-0EC7-4F0B-8F6D-3A89C83D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45BE-C547-4EF6-9840-B033FE35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7A86-C096-4D8C-A40E-74E619B0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5F9-F33C-4BF0-82C7-CC102446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0F85-A878-4163-85E5-D85666E3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CDD0-E0D0-4577-B4F7-AF4CDC3B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11CB-F34B-4B61-8231-56F3F186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59F5-93C4-458D-81E1-313593BD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B039-CB12-41F5-B762-EBB4EF83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BAB7-110B-437A-9659-47F85243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1365-1164-4091-8CC2-06ACE948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5D72-525E-4D73-AFE9-DB047A6D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182A-DEB8-4984-9DAC-D59AC177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9912-A4BA-44F8-8199-7A1E7BC5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D532-ECD1-4361-9E2F-37FEB4D3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FCC-93F9-4D11-9079-2CA1C6E5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cda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cda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1728-19FB-4009-89C0-D29D0A583230}" type="slidenum">
              <a:rPr b="1" lang="en-US" sz="2600" spc="-1" strike="noStrike">
                <a:solidFill>
                  <a:srgbClr val="cccc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da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6FDC-D299-4B8B-A1EE-4B66DA1B5ABB}" type="slidenum">
              <a:rPr b="1" lang="en-US" sz="2600" spc="-1" strike="noStrike">
                <a:solidFill>
                  <a:srgbClr val="cccc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i.nyc.ny.us/html/dcp/html/census/popbri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overtheinsured.org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ommunity Assessmen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724280" y="297180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NS 764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rch 10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pring 200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Arial"/>
              </a:rPr>
              <a:t>Five steps in community assessment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      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1. enlist community partners for assessment proc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2. *define and analyze commun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3. *develop community health profil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4. conduct the community assess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5. mobilize the community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efine and analyze a community – two dimensions &amp; specific indicator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. Sociodemographic dat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e.g., population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gures (by age, gender, race/ethnicity)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employment rate, poverty rate, educational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ai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. Service informa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e.g., police, fire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ools, health care services/setting, places of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ship, social services, parks/recre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Obtaining the data       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1. Secondary source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census.gov, infoshare,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/>
              </a:rPr>
              <a:t>http://www.ci.nyc.ny.us/html/dcp/html/census/popbri.html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2. Primary sources: surveys, observations, key informant in-depth interview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reating a community health profil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. Morbidity dat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e.g., prevalence of diabetes, incidence of HIV inf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. Vital statistics – natality &amp; mortality dat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3. Behavioral dat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e.g., smoking, sex with a condom, wearing a helmet while riding a bike, drug u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Obtaining the data       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1. Secondary sources: reports from the CDC, the NCHS, DOHs; e.g.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http://www.ci.nyc.ny.us/html/doh/pdf/data/2000nhp-brooklyng.pdf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2. Primary sources: survey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nnouncement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Cover the Uninsured Wee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;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/>
              </a:rPr>
              <a:t>www.covertheinsured.org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; SUBO event, March 11, from 2-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CUNY-IFCP event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Risk Perception, Smoking, and Canc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, on May 16, from 9:30-12 at the CUNY Graduate Center (365 Fifth Ave.); contact Ms. Ventuneac at 212-817-189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 past due (p.6 in the internship guid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8T20:49:45Z</dcterms:created>
  <dc:creator>Catherine Stayton</dc:creator>
  <dc:description/>
  <dc:language>en-US</dc:language>
  <cp:lastModifiedBy>Authorized User</cp:lastModifiedBy>
  <dcterms:modified xsi:type="dcterms:W3CDTF">2004-08-05T15:27:51Z</dcterms:modified>
  <cp:revision>16</cp:revision>
  <dc:subject/>
  <dc:title>Who is responsible for  community health?</dc:title>
</cp:coreProperties>
</file>