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92D2-61DB-4378-8556-35A154A96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5E51-68B1-44AB-A94C-53543725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F499-8379-4137-9963-86F387ED8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D3B4-B8A0-4114-83C0-988B5758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F7C8-ABDE-4CF5-853F-A6F97696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56C9-D527-4F5C-A0F5-EE178776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2B53-65AE-4253-A1B5-F43AF0B5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AFDA-C9CD-4F14-AA02-DB7D2F97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95AE-A87E-4154-A97E-46C524BC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3BBB-F175-41E6-A222-EE1E134E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5653-6CA0-4C39-9552-CC127954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932C-8060-40F3-99D0-08190B8B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2349-4A0D-4315-B0E7-0E0F0AD22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verview and Prepa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essor Raymond Wes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ty Health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NS 58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72496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BlackBo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48320" y="2728800"/>
            <a:ext cx="38098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lackboar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ooklyn College’s Online Teaching Appl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lla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ding poli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ff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ct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rse le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 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iteria for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rtual classro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de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Blackboard </a:t>
            </a:r>
            <a:br>
              <a:rPr sz="3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ooklyn College’s Online Teaching Appl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http://blackboard.brooklyn.cuny.edu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on Create Ac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 vs. personal e-mail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THE ITEMS WITH A RED DOT ARE MAND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e an e-mail to admit you to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s the final grade deriv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j0078825" descr=""/>
          <p:cNvPicPr/>
          <p:nvPr/>
        </p:nvPicPr>
        <p:blipFill>
          <a:blip r:embed="rId1"/>
          <a:stretch/>
        </p:blipFill>
        <p:spPr>
          <a:xfrm>
            <a:off x="4648320" y="2951280"/>
            <a:ext cx="38098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ad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ndance and Participation at 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y percent of final g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enty percent of final g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ipation in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een percent of final g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een percent of final g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is the site evaluation weighted so heavil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j0078711" descr=""/>
          <p:cNvPicPr/>
          <p:nvPr/>
        </p:nvPicPr>
        <p:blipFill>
          <a:blip r:embed="rId1"/>
          <a:stretch/>
        </p:blipFill>
        <p:spPr>
          <a:xfrm>
            <a:off x="5703840" y="2362320"/>
            <a:ext cx="1697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acement Si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e component of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s-on-exper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ty to develop/test inter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211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te Evaluation</a:t>
            </a: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fty (50) Percent of Final Gra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ndance reco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port with professional staf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port with service popul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ive and enthusias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itude towards criticis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ility to utilize sugges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ds the function of the agen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te Evaluation</a:t>
            </a: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fty (50) Percent of Final Gra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eives and appropriately acts on problem situ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ance and fulfillment of respon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ility to complete work assign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ination and creativ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 appear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tial to be an effective worker in a setting similar to you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you grade class particip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bd04975_" descr=""/>
          <p:cNvPicPr/>
          <p:nvPr/>
        </p:nvPicPr>
        <p:blipFill>
          <a:blip r:embed="rId1"/>
          <a:stretch/>
        </p:blipFill>
        <p:spPr>
          <a:xfrm>
            <a:off x="4662360" y="2514600"/>
            <a:ext cx="3781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als of the Lec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istribution of syllabu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quirements of cla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view potential placem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view placement proc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iscuss status of resum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lacement Checklis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ole play interview skil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ass Participation</a:t>
            </a: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fteen (15) Percent of Final Gra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796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truct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ed Fish Bo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 Pl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j0078706" descr=""/>
          <p:cNvPicPr/>
          <p:nvPr/>
        </p:nvPicPr>
        <p:blipFill>
          <a:blip r:embed="rId1"/>
          <a:stretch/>
        </p:blipFill>
        <p:spPr>
          <a:xfrm>
            <a:off x="685800" y="2936880"/>
            <a:ext cx="380988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is a PowerPoint Presentation necessa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2730600"/>
            <a:ext cx="384804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wenty (20) Percent of Gra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ty to provide your thoughts and conc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er’s expe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al presen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 a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on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 a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PowerPoint sl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6240" y="151920"/>
            <a:ext cx="7772400" cy="55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tors Evaluated for Pres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04920" y="806400"/>
          <a:ext cx="8534160" cy="6129360"/>
        </p:xfrm>
        <a:graphic>
          <a:graphicData uri="http://schemas.openxmlformats.org/drawingml/2006/table">
            <a:tbl>
              <a:tblPr/>
              <a:tblGrid>
                <a:gridCol w="2259000"/>
                <a:gridCol w="2008080"/>
                <a:gridCol w="2133720"/>
                <a:gridCol w="2133360"/>
              </a:tblGrid>
              <a:tr h="104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anization (25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 (25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nowledge of Topic (25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blic Speaking Skills (25%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ma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roduced site by nam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derstandin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ar/Coherent voic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 appropriate to sect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sion/Vision/ Value Statement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vided sufficient informat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ce leve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rity of purpos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b Description/ Superviso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 of exampl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ide-to-slide transition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sual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 Site Experience/ Written examples of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marized key issu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dy gestur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mary/ Positive vs Negativ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listic Recommend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e contac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ommenda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ar answer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ence interac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676520"/>
            <a:ext cx="70102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purpose of a journ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09480" y="2717640"/>
            <a:ext cx="405144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Journal</a:t>
            </a:r>
            <a:br>
              <a:rPr sz="38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Fifteen (15) Percent of Total Grade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of experi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hicle for Ref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hicle for 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hicle for sharing experience with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ted week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6240" y="151920"/>
            <a:ext cx="7772400" cy="55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ctors Evaluated for Journa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04920" y="1447920"/>
          <a:ext cx="8534160" cy="4724280"/>
        </p:xfrm>
        <a:graphic>
          <a:graphicData uri="http://schemas.openxmlformats.org/drawingml/2006/table">
            <a:tbl>
              <a:tblPr/>
              <a:tblGrid>
                <a:gridCol w="2666880"/>
                <a:gridCol w="3581280"/>
                <a:gridCol w="22860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mmar (10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 (80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rity (10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l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ropriate to s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g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ntence Struc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ic of learning poi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 of exam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nct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rou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rect word us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terature Re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simo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orm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rmat for Journ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ival and Depar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 occur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es to discuss with supervi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es to discuss with class/instru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rning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t for the Journa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990720"/>
          <a:ext cx="7772400" cy="5756040"/>
        </p:xfrm>
        <a:graphic>
          <a:graphicData uri="http://schemas.openxmlformats.org/drawingml/2006/table">
            <a:tbl>
              <a:tblPr/>
              <a:tblGrid>
                <a:gridCol w="3581280"/>
                <a:gridCol w="4191120"/>
              </a:tblGrid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rival and Depar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al occurren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sues to discuss with supervis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sues to discuss with class/instruc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arning Poi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o we begi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191120" y="2286000"/>
            <a:ext cx="41907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is this course requi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2590920"/>
            <a:ext cx="36576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tential Placeme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09480" y="1371600"/>
            <a:ext cx="7772400" cy="5294160"/>
            <a:chOff x="609480" y="1371600"/>
            <a:chExt cx="7772400" cy="5294160"/>
          </a:xfrm>
        </p:grpSpPr>
        <p:sp>
          <p:nvSpPr>
            <p:cNvPr id="118" name=""/>
            <p:cNvSpPr/>
            <p:nvPr/>
          </p:nvSpPr>
          <p:spPr>
            <a:xfrm>
              <a:off x="5791320" y="5845320"/>
              <a:ext cx="25905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rant funded initiativ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57600" y="5845320"/>
              <a:ext cx="21337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earch Inte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480" y="5845320"/>
              <a:ext cx="30481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91320" y="5024520"/>
              <a:ext cx="25905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xposure to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ll aspects of school life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57600" y="5024520"/>
              <a:ext cx="21337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Undergraduate Teaching Assistan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5024520"/>
              <a:ext cx="30481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91320" y="3838680"/>
              <a:ext cx="259056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B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57600" y="3838680"/>
              <a:ext cx="213372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ublic/Mental Health Inte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9480" y="3838680"/>
              <a:ext cx="304812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91320" y="3017880"/>
              <a:ext cx="25905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herapeutic exercis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57600" y="3017880"/>
              <a:ext cx="21337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hysical Therapy Ai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9480" y="3017880"/>
              <a:ext cx="30481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91320" y="2193840"/>
              <a:ext cx="2590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57600" y="2193840"/>
              <a:ext cx="2133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480" y="2193840"/>
              <a:ext cx="3048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91320" y="1371600"/>
              <a:ext cx="25905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jec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57600" y="1371600"/>
              <a:ext cx="21337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yp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9480" y="1371600"/>
              <a:ext cx="30481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gency/Institu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9480" y="1371600"/>
              <a:ext cx="7772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9480" y="219384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9480" y="301788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9480" y="6665760"/>
              <a:ext cx="7772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9480" y="1371600"/>
              <a:ext cx="0" cy="529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657600" y="1371600"/>
              <a:ext cx="0" cy="529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1320" y="1371600"/>
              <a:ext cx="0" cy="529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381880" y="1371600"/>
              <a:ext cx="0" cy="529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9480" y="383868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9480" y="502452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9480" y="584532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tential Placeme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85800" y="1523880"/>
            <a:ext cx="7772400" cy="4948200"/>
            <a:chOff x="685800" y="1523880"/>
            <a:chExt cx="7772400" cy="4948200"/>
          </a:xfrm>
        </p:grpSpPr>
        <p:sp>
          <p:nvSpPr>
            <p:cNvPr id="149" name=""/>
            <p:cNvSpPr/>
            <p:nvPr/>
          </p:nvSpPr>
          <p:spPr>
            <a:xfrm>
              <a:off x="5867280" y="5756400"/>
              <a:ext cx="259092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ublic and patient edu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33920" y="5756400"/>
              <a:ext cx="213336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ducational/ Resear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5800" y="5756400"/>
              <a:ext cx="304812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67280" y="4935600"/>
              <a:ext cx="25909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ealth education curricu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33920" y="4935600"/>
              <a:ext cx="21333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" y="4935600"/>
              <a:ext cx="30481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67280" y="3990960"/>
              <a:ext cx="259092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arm Reduction Support Grou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33920" y="3990960"/>
              <a:ext cx="213336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" y="3990960"/>
              <a:ext cx="304812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67280" y="3170160"/>
              <a:ext cx="25909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uddy Services Progr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33920" y="3170160"/>
              <a:ext cx="21333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vocacy and 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5800" y="3170160"/>
              <a:ext cx="30481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867280" y="2346480"/>
              <a:ext cx="259092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ealth Education and Outrea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33920" y="2346480"/>
              <a:ext cx="213336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tilization Manag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5800" y="2346480"/>
              <a:ext cx="304812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67280" y="1523880"/>
              <a:ext cx="259092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jec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33920" y="1523880"/>
              <a:ext cx="21333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yp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85800" y="1523880"/>
              <a:ext cx="304812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gency/Institu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5800" y="1523880"/>
              <a:ext cx="7772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5800" y="234648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5800" y="317016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5800" y="6472080"/>
              <a:ext cx="7772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85800" y="1523880"/>
              <a:ext cx="0" cy="494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33920" y="1523880"/>
              <a:ext cx="0" cy="494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67280" y="1523880"/>
              <a:ext cx="0" cy="494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58200" y="1523880"/>
              <a:ext cx="0" cy="494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5800" y="399096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5800" y="493560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5800" y="575640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tential Pla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85800" y="990720"/>
            <a:ext cx="7772400" cy="5805360"/>
            <a:chOff x="685800" y="990720"/>
            <a:chExt cx="7772400" cy="5805360"/>
          </a:xfrm>
        </p:grpSpPr>
        <p:sp>
          <p:nvSpPr>
            <p:cNvPr id="180" name=""/>
            <p:cNvSpPr/>
            <p:nvPr/>
          </p:nvSpPr>
          <p:spPr>
            <a:xfrm>
              <a:off x="5867280" y="1531800"/>
              <a:ext cx="2590920" cy="52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mmunity needs assessment surve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33920" y="1531800"/>
              <a:ext cx="2133360" cy="52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aluation/ Resear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5800" y="1531800"/>
              <a:ext cx="3048120" cy="52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67280" y="990720"/>
              <a:ext cx="259092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jec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33920" y="990720"/>
              <a:ext cx="21333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yp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85800" y="990720"/>
              <a:ext cx="304812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gency/Institu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5800" y="990720"/>
              <a:ext cx="7772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5800" y="153180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5800" y="6796080"/>
              <a:ext cx="7772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5800" y="990720"/>
              <a:ext cx="0" cy="580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33920" y="990720"/>
              <a:ext cx="0" cy="580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67280" y="990720"/>
              <a:ext cx="0" cy="580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458200" y="990720"/>
              <a:ext cx="0" cy="580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tential Pla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85800" y="990720"/>
            <a:ext cx="7772400" cy="5805360"/>
            <a:chOff x="685800" y="990720"/>
            <a:chExt cx="7772400" cy="5805360"/>
          </a:xfrm>
        </p:grpSpPr>
        <p:sp>
          <p:nvSpPr>
            <p:cNvPr id="195" name=""/>
            <p:cNvSpPr/>
            <p:nvPr/>
          </p:nvSpPr>
          <p:spPr>
            <a:xfrm>
              <a:off x="5867280" y="1531800"/>
              <a:ext cx="2590920" cy="52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733920" y="1531800"/>
              <a:ext cx="2133360" cy="52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aluation/ Resear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rect service &amp; mark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5800" y="1531800"/>
              <a:ext cx="3048120" cy="52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67280" y="990720"/>
              <a:ext cx="259092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jec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33920" y="990720"/>
              <a:ext cx="21333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yp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5800" y="990720"/>
              <a:ext cx="304812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gency/Institu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5800" y="990720"/>
              <a:ext cx="7772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00" y="153180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800" y="6796080"/>
              <a:ext cx="7772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5800" y="990720"/>
              <a:ext cx="0" cy="580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33920" y="990720"/>
              <a:ext cx="0" cy="580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67280" y="990720"/>
              <a:ext cx="0" cy="580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458200" y="990720"/>
              <a:ext cx="0" cy="580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5867280" y="1600200"/>
            <a:ext cx="243864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5240" indent="-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mercial establishments on Amsterdam Avenue in Manhatt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ty health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tential Pla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85800" y="990720"/>
            <a:ext cx="7772400" cy="5805360"/>
            <a:chOff x="685800" y="990720"/>
            <a:chExt cx="7772400" cy="5805360"/>
          </a:xfrm>
        </p:grpSpPr>
        <p:sp>
          <p:nvSpPr>
            <p:cNvPr id="211" name=""/>
            <p:cNvSpPr/>
            <p:nvPr/>
          </p:nvSpPr>
          <p:spPr>
            <a:xfrm>
              <a:off x="5867280" y="1531800"/>
              <a:ext cx="2590920" cy="52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33920" y="1531800"/>
              <a:ext cx="2133360" cy="52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earch Assist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5800" y="1531800"/>
              <a:ext cx="3048120" cy="52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990720"/>
              <a:ext cx="259092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jec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33920" y="990720"/>
              <a:ext cx="21333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yp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5800" y="990720"/>
              <a:ext cx="304812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gency/Institu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5800" y="990720"/>
              <a:ext cx="7772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5800" y="153180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85800" y="6796080"/>
              <a:ext cx="7772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5800" y="990720"/>
              <a:ext cx="0" cy="580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33920" y="990720"/>
              <a:ext cx="0" cy="580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67280" y="990720"/>
              <a:ext cx="0" cy="580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458200" y="990720"/>
              <a:ext cx="0" cy="580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2819520" y="3192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19920" y="1628640"/>
            <a:ext cx="22096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to-therapy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tential Pla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85800" y="990720"/>
            <a:ext cx="8076960" cy="5805360"/>
            <a:chOff x="685800" y="990720"/>
            <a:chExt cx="8076960" cy="5805360"/>
          </a:xfrm>
        </p:grpSpPr>
        <p:sp>
          <p:nvSpPr>
            <p:cNvPr id="228" name=""/>
            <p:cNvSpPr/>
            <p:nvPr/>
          </p:nvSpPr>
          <p:spPr>
            <a:xfrm>
              <a:off x="6070320" y="1531800"/>
              <a:ext cx="2692440" cy="52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53440" y="1531800"/>
              <a:ext cx="2216880" cy="52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gram Evalu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1531800"/>
              <a:ext cx="3167640" cy="52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70320" y="990720"/>
              <a:ext cx="2692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jec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53440" y="990720"/>
              <a:ext cx="221688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yp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85800" y="990720"/>
              <a:ext cx="31676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gency/Institu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5800" y="990720"/>
              <a:ext cx="807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5800" y="1531800"/>
              <a:ext cx="807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85800" y="6796080"/>
              <a:ext cx="807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5800" y="990720"/>
              <a:ext cx="0" cy="580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53440" y="990720"/>
              <a:ext cx="0" cy="580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70320" y="990720"/>
              <a:ext cx="0" cy="580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762760" y="990720"/>
              <a:ext cx="0" cy="580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2819520" y="3192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19920" y="1676520"/>
            <a:ext cx="25905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e Awareness Program (MAP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tential Pla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685800" y="990720"/>
            <a:ext cx="8076960" cy="5805360"/>
            <a:chOff x="685800" y="990720"/>
            <a:chExt cx="8076960" cy="5805360"/>
          </a:xfrm>
        </p:grpSpPr>
        <p:sp>
          <p:nvSpPr>
            <p:cNvPr id="245" name=""/>
            <p:cNvSpPr/>
            <p:nvPr/>
          </p:nvSpPr>
          <p:spPr>
            <a:xfrm>
              <a:off x="6070320" y="1531800"/>
              <a:ext cx="2692440" cy="52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53440" y="1531800"/>
              <a:ext cx="2216880" cy="52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ear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85800" y="1531800"/>
              <a:ext cx="3167640" cy="52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70320" y="990720"/>
              <a:ext cx="2692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jec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53440" y="990720"/>
              <a:ext cx="221688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yp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5800" y="990720"/>
              <a:ext cx="31676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gency/Institu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85800" y="990720"/>
              <a:ext cx="807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85800" y="1531800"/>
              <a:ext cx="807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5800" y="6796080"/>
              <a:ext cx="807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85800" y="990720"/>
              <a:ext cx="0" cy="580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53440" y="990720"/>
              <a:ext cx="0" cy="580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70320" y="990720"/>
              <a:ext cx="0" cy="580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762760" y="990720"/>
              <a:ext cx="0" cy="580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2819520" y="3192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19920" y="1676520"/>
            <a:ext cx="259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st elementary school students in core academic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tential Pla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685800" y="990720"/>
            <a:ext cx="8076960" cy="5805360"/>
            <a:chOff x="685800" y="990720"/>
            <a:chExt cx="8076960" cy="5805360"/>
          </a:xfrm>
        </p:grpSpPr>
        <p:sp>
          <p:nvSpPr>
            <p:cNvPr id="262" name=""/>
            <p:cNvSpPr/>
            <p:nvPr/>
          </p:nvSpPr>
          <p:spPr>
            <a:xfrm>
              <a:off x="6070320" y="1531800"/>
              <a:ext cx="2692440" cy="52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53440" y="1531800"/>
              <a:ext cx="2216880" cy="52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gram Evalu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5800" y="1531800"/>
              <a:ext cx="3167640" cy="52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70320" y="990720"/>
              <a:ext cx="2692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jec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53440" y="990720"/>
              <a:ext cx="221688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yp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" y="990720"/>
              <a:ext cx="31676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gency/Institu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5800" y="990720"/>
              <a:ext cx="807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85800" y="1531800"/>
              <a:ext cx="807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5800" y="6796080"/>
              <a:ext cx="807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5800" y="990720"/>
              <a:ext cx="0" cy="580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53440" y="990720"/>
              <a:ext cx="0" cy="580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070320" y="990720"/>
              <a:ext cx="0" cy="580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762760" y="990720"/>
              <a:ext cx="0" cy="580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2819520" y="3192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19920" y="1676520"/>
            <a:ext cx="2590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on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1920" indent="-61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1920" indent="-61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aturday  Liberation Acade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1920" indent="-61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1920" indent="-61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evelop evaluation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1920" indent="-61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1920" indent="-61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1920" indent="-61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dvocacy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1920" indent="-61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1920" indent="-61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udent classroom test-tak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tential Pla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85800" y="1981080"/>
            <a:ext cx="7772400" cy="4114800"/>
            <a:chOff x="685800" y="1981080"/>
            <a:chExt cx="7772400" cy="4114800"/>
          </a:xfrm>
        </p:grpSpPr>
        <p:sp>
          <p:nvSpPr>
            <p:cNvPr id="279" name=""/>
            <p:cNvSpPr/>
            <p:nvPr/>
          </p:nvSpPr>
          <p:spPr>
            <a:xfrm>
              <a:off x="5867280" y="2819520"/>
              <a:ext cx="2590920" cy="32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52440" indent="-352440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ultiple programs from school-based to group counsel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33920" y="2819520"/>
              <a:ext cx="2133360" cy="32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gram Evalu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5800" y="2819520"/>
              <a:ext cx="3048120" cy="32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867280" y="1981080"/>
              <a:ext cx="25909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jec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733920" y="1981080"/>
              <a:ext cx="213336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yp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5800" y="1981080"/>
              <a:ext cx="30481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gency/Institu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85800" y="1981080"/>
              <a:ext cx="7772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85800" y="6095880"/>
              <a:ext cx="7772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85800" y="1981080"/>
              <a:ext cx="0" cy="411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33920" y="1981080"/>
              <a:ext cx="0" cy="411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867280" y="1981080"/>
              <a:ext cx="0" cy="411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458200" y="1981080"/>
              <a:ext cx="0" cy="411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5800" y="281952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tential Pla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685800" y="990720"/>
            <a:ext cx="7772400" cy="5805360"/>
            <a:chOff x="685800" y="990720"/>
            <a:chExt cx="7772400" cy="5805360"/>
          </a:xfrm>
        </p:grpSpPr>
        <p:sp>
          <p:nvSpPr>
            <p:cNvPr id="294" name=""/>
            <p:cNvSpPr/>
            <p:nvPr/>
          </p:nvSpPr>
          <p:spPr>
            <a:xfrm>
              <a:off x="5867280" y="1531800"/>
              <a:ext cx="2590920" cy="52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urch-based HIV/ AI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nority Asthma Coaliti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000000"/>
                </a:buClr>
                <a:buFont typeface="Wingdings 2" charset="2"/>
                <a:buChar char="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000000"/>
                </a:buClr>
                <a:buFont typeface="Wingdings 2" charset="2"/>
                <a:buChar char="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moking Cessation through Barbersho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000000"/>
                </a:buClr>
                <a:buFont typeface="Wingdings 2" charset="2"/>
                <a:buChar char="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000000"/>
                </a:buClr>
                <a:buFont typeface="Wingdings 2" charset="2"/>
                <a:buChar char="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reast Cancer Control in Beauty Sal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733920" y="1531800"/>
              <a:ext cx="2133360" cy="52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munity Health Empower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85800" y="1531800"/>
              <a:ext cx="3048120" cy="52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67280" y="990720"/>
              <a:ext cx="259092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jec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33920" y="990720"/>
              <a:ext cx="21333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yp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85800" y="990720"/>
              <a:ext cx="304812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gency/Institu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5800" y="990720"/>
              <a:ext cx="7772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5800" y="153180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85800" y="6796080"/>
              <a:ext cx="7772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5800" y="990720"/>
              <a:ext cx="0" cy="580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733920" y="990720"/>
              <a:ext cx="0" cy="580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867280" y="990720"/>
              <a:ext cx="0" cy="580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458200" y="990720"/>
              <a:ext cx="0" cy="580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urse Objectiv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erience the expectations of health professionals in work set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pply classroom lessons to in vivo 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emonstrate an understanding of overall goals and objectives of their placement ag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tential Pla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685800" y="1981080"/>
            <a:ext cx="7772400" cy="4114800"/>
            <a:chOff x="685800" y="1981080"/>
            <a:chExt cx="7772400" cy="4114800"/>
          </a:xfrm>
        </p:grpSpPr>
        <p:sp>
          <p:nvSpPr>
            <p:cNvPr id="309" name=""/>
            <p:cNvSpPr/>
            <p:nvPr/>
          </p:nvSpPr>
          <p:spPr>
            <a:xfrm>
              <a:off x="5867280" y="2819520"/>
              <a:ext cx="2590920" cy="32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eventive health care education and counseling to adolescent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33920" y="2819520"/>
              <a:ext cx="2133360" cy="32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ealth Edu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85800" y="2819520"/>
              <a:ext cx="3048120" cy="32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67280" y="1981080"/>
              <a:ext cx="25909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jec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33920" y="1981080"/>
              <a:ext cx="213336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yp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5800" y="1981080"/>
              <a:ext cx="30481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gency/Institu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5800" y="1981080"/>
              <a:ext cx="7772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5800" y="6095880"/>
              <a:ext cx="7772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85800" y="1981080"/>
              <a:ext cx="0" cy="411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733920" y="1981080"/>
              <a:ext cx="0" cy="411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67280" y="1981080"/>
              <a:ext cx="0" cy="411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458200" y="1981080"/>
              <a:ext cx="0" cy="411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85800" y="281952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tential Pla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685800" y="1981080"/>
            <a:ext cx="7772400" cy="4114800"/>
            <a:chOff x="685800" y="1981080"/>
            <a:chExt cx="7772400" cy="4114800"/>
          </a:xfrm>
        </p:grpSpPr>
        <p:sp>
          <p:nvSpPr>
            <p:cNvPr id="324" name=""/>
            <p:cNvSpPr/>
            <p:nvPr/>
          </p:nvSpPr>
          <p:spPr>
            <a:xfrm>
              <a:off x="5867280" y="2819520"/>
              <a:ext cx="2590920" cy="32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rect 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pendent on depart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733920" y="2819520"/>
              <a:ext cx="2133360" cy="32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killed nursing fac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olunteer 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85800" y="2819520"/>
              <a:ext cx="3048120" cy="32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867280" y="1981080"/>
              <a:ext cx="25909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jec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733920" y="1981080"/>
              <a:ext cx="213336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yp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85800" y="1981080"/>
              <a:ext cx="30481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gency/Institu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85800" y="1981080"/>
              <a:ext cx="7772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85800" y="6095880"/>
              <a:ext cx="7772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800" y="1981080"/>
              <a:ext cx="0" cy="411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733920" y="1981080"/>
              <a:ext cx="0" cy="411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867280" y="1981080"/>
              <a:ext cx="0" cy="411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458200" y="1981080"/>
              <a:ext cx="0" cy="411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85800" y="281952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762120" y="37339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62120" y="495288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tential Pla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685800" y="1981080"/>
            <a:ext cx="7772400" cy="4114800"/>
            <a:chOff x="685800" y="1981080"/>
            <a:chExt cx="7772400" cy="4114800"/>
          </a:xfrm>
        </p:grpSpPr>
        <p:sp>
          <p:nvSpPr>
            <p:cNvPr id="341" name=""/>
            <p:cNvSpPr/>
            <p:nvPr/>
          </p:nvSpPr>
          <p:spPr>
            <a:xfrm>
              <a:off x="5867280" y="2819520"/>
              <a:ext cx="2590920" cy="32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rect 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rect 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33920" y="2819520"/>
              <a:ext cx="2133360" cy="32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hysical Therap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killed nursing fac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85800" y="2819520"/>
              <a:ext cx="3048120" cy="32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67280" y="1981080"/>
              <a:ext cx="25909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jec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733920" y="1981080"/>
              <a:ext cx="213336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yp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5800" y="1981080"/>
              <a:ext cx="30481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gency/Institu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5800" y="1981080"/>
              <a:ext cx="7772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5800" y="6095880"/>
              <a:ext cx="7772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5800" y="1981080"/>
              <a:ext cx="0" cy="411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3920" y="1981080"/>
              <a:ext cx="0" cy="411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67280" y="1981080"/>
              <a:ext cx="0" cy="411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458200" y="1981080"/>
              <a:ext cx="0" cy="411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5800" y="281952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762120" y="37339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495288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I secure a practicum 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6477120" y="2362320"/>
            <a:ext cx="1782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cement Proces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areas of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potential pla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int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me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of 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 agreement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 Regarding Resu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have a res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t upd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know how to develop res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ssistance is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le Play of Int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419720" y="1371240"/>
            <a:ext cx="44193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have just arrived at Harlem Hos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are meeting with the Associate Director of Child and Adolescent Behavior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begins the interview by asking,  “Did you have problems getting 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685800" y="2151000"/>
            <a:ext cx="339084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signments for Next Clas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Practicum Selection Check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first draft of res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ird: Chapter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dpoints of Cour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ssion, vision, and value of their placement ag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thods and services of their placement ag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ffective use of super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hics and legal issues in health set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mportance of 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fety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will we achieve these objectiv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87880" y="2819520"/>
            <a:ext cx="31575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urse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um pla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of key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semination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truct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can I expect from this cour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bd10495_" descr=""/>
          <p:cNvPicPr/>
          <p:nvPr/>
        </p:nvPicPr>
        <p:blipFill>
          <a:blip r:embed="rId1"/>
          <a:stretch/>
        </p:blipFill>
        <p:spPr>
          <a:xfrm>
            <a:off x="4859280" y="2286000"/>
            <a:ext cx="3387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llabu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ckboard acc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8T21:14:02Z</dcterms:created>
  <dc:creator>Authorized User</dc:creator>
  <dc:description/>
  <dc:language>en-US</dc:language>
  <cp:lastModifiedBy>Authorized User</cp:lastModifiedBy>
  <dcterms:modified xsi:type="dcterms:W3CDTF">2004-06-29T16:35:01Z</dcterms:modified>
  <cp:revision>19</cp:revision>
  <dc:subject/>
  <dc:title>Overview, Resume, and Interview Skills</dc:title>
</cp:coreProperties>
</file>