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gif" ContentType="image/gif"/>
  <Override PartName="/ppt/media/image8.wmf" ContentType="image/x-wmf"/>
  <Override PartName="/ppt/media/image1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lick to move the slide</a:t>
            </a:r>
            <a:endParaRPr b="0" lang="en-US" sz="3800" spc="-1" strike="noStrike">
              <a:solidFill>
                <a:srgbClr val="000000"/>
              </a:solidFill>
              <a:latin typeface="Comic Sans MS"/>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38E4-6096-4442-9C19-695080FC7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revention of osteoporosis is linked to strong bones being built during childhood and adolescence and being maintained throughout adult life (Mark &amp; Link, 1999).  Since clinical manifestations of osteoporosis often do not appear until later in life, one of the most important factors in preventing osteoporosis is the attainment of an optimal peak bone mass during adolescence and young adulthood (Cromer &amp; Harel, 2000).  Peak bone mass is defined as the highest level of bone mass achieved through normal skeletal growth (Masi &amp; Bilezikian, 1997).  The achievement of peak bone mass occurs in the third decade of life; about the age of 30 (Masi &amp; Bilezikian, 1997; NIH, 2000; PDR, 1999).  During the next 10-15 years, the bone structure stays relatively stable with slight reductions in mass if certain lifestyles are practiced.  However, at the age of menopause, dramatic decreases in bone mass are lost due to changes in hormone production.  Regardless of these hormonal changes, debilitating bone loss in not inevitable.  The physiologic processes that lead to osteoporosis occur over much of a patient’s lifespan and are amenable to interventions throughout that lifetime (Katz, &amp; Sherman &amp; DiNubile, 199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optimization of bone health is a process that must occur throughout the lifespan because once a woman experiences a fracture due to bone fragility, no known therapy can rebuild the damaged bone to a healthy level.  Therefore, measures taken to prevent bone fragility are of vital importance (Anderson &amp; Metz, 1993; Blalock, et al., 1996).  Evidence indicates that young women can increase their peak bone mineral density, promote long-term bone health, and reduce the risk of disease later in life by following effective dietary exercise and lifestyle practices (Mark &amp; Link, 1999).  Because there is currently no medical intervention to completely reverse the effects of osteoporosis, the most powerful tool to reduce the incidence of osteoporosis is prevention through health education (Mark &amp; Link, 1999).</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ficiency is the most widely known issue associated with calcium intake.  A chronic inadequate calcium intake through diet or supplementation is one factor in the etiology of several disorders.  The disorder given the most attention is osteoporosis. This disease is multifaceted with many correlated risk factors such as smoking, glucocorticoid use, and physical inactivity (Swaminathan, 1999).  However, many of these risk factors influence calcium uptake and utilization.  Yet the role of calcium intake in the prevention of osteoporosis can be reduced to two basic principles: build the highest peak bone mass possible and protect the bone mass that has accumulated (Heaney, 19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ow calcium intakes coupled with high obligatory calcium losses from the body, deplete calcium reserves.  In other words, low intakes cause subnormal bone mass and strength.  This is one of the contributing factors of osteoporosis.  The primary strategies for reducing osteoporosis risk are to optimize bone mass during growth and to reduce bone loss later in life.  The aim of both of these strategies is to maximize calcium intakes (Weaver &amp; Heaney, 1999; Krall &amp; Dawson-Hughes, 1999).  In the past few years, evidence has been given to indicate that dietary calcium intake is positively related to bone mineral density in children and adolescents.  Research indicates the higher the calcium intake, the greater the peak bone mass (Valimaki et al., 1994; Jackman et al., 1997).  Additionally, research has indicated a positive correlation between bone mass and calcium intake in premenopausal adult women (Welten, Kemper, Post, &amp; Van Staveren, 1995).   Overall, there is strong evidence that calcium intake influences bone mass in all age groups (Gennari, 20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dequate dietary calcium is essential for building denser, stronger bones in the first three decades of life and for slowing the rates of bone loss in later years (Gerrior et al., 1998).  The importance of calcium in the human diet is evident in many government publications.  Healthy People 2010 is a document created to identify the current health status of Americans and the health and lifestyle areas needing improvement.  One of the goals of the Healthy People 2010 document is to increase the quality of life among Americans.  This is important when evaluating calcium intake and its role in the development of osteoporosis.  As a result, there are three calcium-related objectives outlined in Healthy People 2010.  One of these is specific to calcium intake while the other two are related to osteoporo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jective 19-11.  Increase the proportion of persons aged 2 years and older who meet dietary recommendations for calc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alcium is essential for various mechanic and physiologic functions in the body.  According to the Institute of Medicine (IOM) (1997), and the new Dietary Reference Intakes, the recommendations for adequate daily intakes (AIs) of calcium are 500 milligrams for children 1 to 3 years.  The recommendations for other age groups include children aged 4 to 8 years, 800 milligrams; for adolescents aged 9 to 18 years, 1300 milligrams; for adults 19 to 50 years, 1000 milligrams; and for adults older than 51 years, 1200 milligrams (IOM, 199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ccording to baseline data collected during the National Health and Nutrition Examination Survey of 1988-1994 (NHANES III), only 46% of persons aged 2 years and older were at or above approximated mean calcium requirements based on calcium from foods, dietary supplements, and antacids.  By the year 2010, the target for adequate calcium intake is 75% of the population aged 2 years and older.</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ources of dietary calcium are numerous.  The most often recognized form is that of dairy products.  Milk products contribute a significant proportion of calcium to the diets of women in western societies and women who do not consume milk products are unlikely to meet their calcium needs (Fleming &amp; Heimbach, 1994; Horwath, Bovern, Campbell, Busby, &amp; Scott, 1995).  Several barriers to milk product consumption have been identified in research.  Low consumption has been associated with a dislike for milk products (Horwath et al., 1995), adverse reactions such as lactose intolerance (Arney &amp; Pinnock, 1993), perceived adequate intake (Chapman, Chan, &amp; Clark, 1995), and the perception of milk products increasing dietary fat and cholesterol intake (Horwath et al., 1995).  However, research has also identified that consuming more meals at home or at sit-down restaurants is associated with moderate calcium intake (Lewis &amp; Hollingworth, 19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lcium supplementation is another effort utilized to meet the published Healthy People 2010 objectives.  Interest and enthusiasm in the use of dietary supplements appears to be growing in the United States.  According to NHANES III data collected in 1988-1994, approximately 40% of the population took dietary supplements during the month prior to the interview (Ervin, Wright, &amp; Kennedy-Stephenson, 1999).  Characteristics of these supplement users included women, Caucasian, increasing age, higher levels of income and education, and a self-reported health status of good or fair.  Of these supplement users, approximately 46 percent took a combination vitamin/mineral product (Ervin et al., 1999).  The data did not indicate the proportion of people consuming calcium supplements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lcium supplements are a nondietary, alternative source of calcium (Sutton, 2000).  Individuals who are unable to get enough calcium in their regular diet generally take calcium supplements.  These nondietary alternatives often come as a salt.  A calcium “salt” contains calcium along with another substance, such as carbonate or gluconate (Micromedex, 2001).  As a result, some calcium salts have more elemental calcium than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dies examining the effects of calcium supplementation in premenopausal women have shown conflicting results.  Some have shown no significant effect on bone mineral density (BMD) in premenopausal women (Smith, Gilligan, Smith, Surpos, 1989) while still others have shown significant increases in BMD (Baran et al., 1989; Rico, Revilla, Villa, de Buergo, &amp; Arribas, 1994; Lloyd et al., 1993; Johnston et al., 1992).  Although there have been discrepancies in the findings, the overall conclusion is that calcium intake, even from supplements, has some effect in increasing peak bone mass during growth and bone matu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though calcium supplements have a role in achieving adequate calcium intake, it is important to remember that the best source of calcium is food.  A calcium supplement is to </a:t>
            </a:r>
            <a:r>
              <a:rPr b="0" i="1" lang="en-US" sz="800" spc="-1" strike="noStrike">
                <a:solidFill>
                  <a:srgbClr val="000000"/>
                </a:solidFill>
                <a:latin typeface="Arial"/>
              </a:rPr>
              <a:t>supplement</a:t>
            </a:r>
            <a:r>
              <a:rPr b="0" lang="en-US" sz="800" spc="-1" strike="noStrike">
                <a:solidFill>
                  <a:srgbClr val="000000"/>
                </a:solidFill>
                <a:latin typeface="Arial"/>
              </a:rPr>
              <a:t> what is obtained from food sources.  Additionally, it is important to remember that bone health is not based on a single nutrient (Heaney, 1992).  Diets low in calcium also tend to be low in other nutrients that are essential for normal bone development such as zinc, manganese, copper, ascorbic acid, protein, and vitamin D (Holbrook, &amp; Barrett-Connor, 1991).</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itamin D plays an important role in calcium metabolism, calcium absorption, and bone health.  The National Osteoporosis Foundation describes the relationship between calcium absorption and vitamin D as being similar to that of a locked door and key (NOF, n.d.).  Vitamin D is the key that unlocks the door and allows calcium to leave the intestine and enter the bloodstream.  Vitamin D also works in the kidneys to help resorb calcium that otherwise would be excreted (NOF, 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itamin D is a fat soluble vitamin that has been associated with bone-related disorders for centuries.  Vitamin D deficiency is associated with rickets in children, osteomalacia in adults, and secondary hyperparathyroidism (Combs, 1998).  The daily requirement for this vitamin is met from the diet or from synthesis in the skin.  From either of these sources, vitamin D is metabolized to 25-hydroxy vitamin D (25OHD) in the liver and is then converted to the active metabolite 1,25 dihydroxyvitamin D (1,25 [OH2 D) in the kidney (Combs, 1998; Swaminathan, 1999).</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ommendations for vitamin D intake are 200 international units (IU) for women under the age of 50, 400 IU for women 51-70 years of age, and 600 IU for women over 70 years of age (Willhite, 1998).  The increase in vitamin D intake recommendations indicates that ageing affects vitamin D metabolism.  The conversion of 25OHD to the active metabolite 1,25(OH)2D is reduced because of an age-related decline in renal function (Swaminathan, 1999).  Additionally, as adults age, the ability to make vitamin D through the skin decreases (NOF, 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 are many sources of vitamin D available, however sunshine is the major source.  One study indicated that total body sun exposure could provide the equivalent of 10,000 IU of vitamin D without a person experiencing toxicity.  The study suggested that the RDA for vitamin D is a physiologic limit (Vieth, 1999).  It may be important to note that sources of vitamin D may be managed differently in the body and therefore, the body can handle a greater amount of sunlight produced vitamin D than vitamin D from dietary sources.  However, dietary sources of vitamin D are necessary to utilize by people who do not get adequate sun exposure due to latitude, season, work environment, etc.  Dietary sources of vitamin D include vitamin D-fortified dairy products, egg yolks, saltwater fish, liver, and supplements (Dowd, 2001; NOF, n.d.; Willhite, 1998).</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luoride has effects on the matrix of bone itself and on osteoblast function.  Although fluoride has been used for dental carry prevention, it is approved for the treatment of osteoporosis in many</a:t>
            </a:r>
            <a:r>
              <a:rPr b="0" i="1" lang="en-US" sz="800" spc="-1" strike="noStrike">
                <a:solidFill>
                  <a:srgbClr val="000000"/>
                </a:solidFill>
                <a:latin typeface="Arial"/>
              </a:rPr>
              <a:t> </a:t>
            </a:r>
            <a:r>
              <a:rPr b="0" lang="en-US" sz="800" spc="-1" strike="noStrike">
                <a:solidFill>
                  <a:srgbClr val="000000"/>
                </a:solidFill>
                <a:latin typeface="Arial"/>
              </a:rPr>
              <a:t>countries around the world (Dowd, 2001; Sowers, Wallace, &amp; Lemke, 1986).  Fluoride is capable of stimulating osteoblasts to increase bone formation.  Although the new bone has increased crystallinity, making it more resistant to resorption, the bone formed is abnormal and mechanical strength is compromised (Willhite, 1998).  A clinical trial study demonstrated this compromise of mechanical strength by utilizing immediate-release fluoride.  The study showed gains in spinal bone mineral density but spinal fracture rate was not decreased.  Additionally, fracture risk of the hip and appendicular skeleton actually increased (Pak, Sakhaee, Rubin, Zerwekh, 1997).  The authors concluded that fluoride may increase trabecular bone density at the expense of cortical bone even with adequate calcium supplementation (Pak et al., 199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dditional studies have been conducted using sustained-release fluoride.  A study conducted by Pak and colleagues (1995) looked at osteoporotic women consuming sustained-release sodium fluoride and calcium citrate for four years.  The study found an increase in spinal BMD by almost 5% and a decrease in vertebral fracture rate when compared to calcium intake alone (Pak, Sakhaee, Adams-Huet, Piziak, Peterson,  Poindexter, 199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uoride is a compound that aids in the development of a strong bone structure.  However, studies indicate that fluoride alone can actually reduce bone strength.  The research further indicates that in combination with other minerals and vitamins such as calcium and vitamin D, fluoride has its greatest benefits for bone heal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itamin K has been suggested to play a specific role in osteoporosis.  Vitamin K is involved in the synthesis of various proteins in the body including three in bone tissue: osteocalcin, matrix gla protein (MGP) and protein S (Dowd, 2001; Swaminathan, 1999).  Vitamin K-dependent proteins contain gamma carboxyglutamic acid residues, and vitamin K is required for the carboxylation reaction of glutamic acid (Combs, 1998; Swaminathan, 1999).  A lack of vitamin K will lead to a reduction in carboxylation of vitamin K-dependent proteins.  The concentration of undercarboxylated osteocalcin (UcOC) has been reported to be higher in postmenopausal women than in premenopausal women (Knapen, Hamulyak, &amp; Vermeer, 1989) and there seems to be an increase in UcOC with age (Plantalech, Guilaumont, Vergnaud, Leclercq, &amp; Delmas, 1991).  Additionally, elevated UcOC concentrations have been associated with low bone mass in the femur and an increased risk of hip fracture in elderly women (Szulc, Arlot, Chapuy, Duboeuf, Meunier, &amp; Delmas, 1994; Szulc, Chapuy, Meunier, Delmas,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itamin K is also known for its role in blood clotting.  For those who are taking anticoagulants, caution needs to be exercised when taking supplemental Vitamin K because it could affect clotting.  A physician should be consulted prior to taking supplemental vitamin K.  The major dietary source of vitamin K is green vegetables (Combs, 1998).  Although vitamin K deficiency is rare in most societies and its role in bone health is not completely clear, vitamin K cannot be ignored as a compound of importance in bone health.</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hosphorus is another compound that is important for bone health.  Phosphorus is widely available in the diet and is part of the crystal structure of bones.  Almost 85% of the body’s phosphorus is present in crystalline form in bone as hydroxyapatite (Gennari, 2001). Since phosphorus is so abundant in the diet, a nutritional deficit is generally not a concern.  However, among those with malnutrition or low dietary calcium intakes, phosphorus may bring harm by causing an increased calcium excretion (Dowd, 2001).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hosphorus deficiency may be more important than currently recognized.  Multiple nutritional deficiencies have been implicated in the concentrated number of fractures of the upper femur (Combs, 1998).  With approximately 20% of elderly individuals in industrialized nations ingesting less than 60% of the RDA for phosphorus or protein, a relative hypophosphatemia might result (Heaney, 2000).  This inadequate phosphorus intake could slow bone repair of osteoporotic fractures (Dowd, 2001).  When searching for a good source of phosphorus, it is important to know that milk provides calcium and phosphorus in an optimal ratio for building bone tissue (Dowd,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inal mineral to be discussed in relation to bone health is magnesium.  Approximately 50-60% of the magnesium in the body is in bone (Gennari, 2001).  A well-balanced diet including whole grains, legumes, green leafy vegetables, and nuts contains a healthy amount of magnesium (Dowd, 2001).  Although many people do not consume an adequate amount of calcium in their diet, magnesium deficiency is relatively rare (Combs, 1998; Dowd,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experimental magnesium deficiency studies, osteoblastic and osteoclastic activity is decreased and there is a cessation of bone growth and osteopenia develops (Robbins &amp; New, 1997).  Additionally, the magnesium content of trabecular bone in osteoporotic subjects is significantly lower than other subjects and magnesium intake has been reported to be lower in osteoporotic subjects (Combs, 1998; Schwartz &amp; Reddi, 1979).</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ddition to its content in bone, magnesium plays a role in the formation of 1,25 dihydroxyvitamin D.  A magnesium-dependent hydroxylase enzyme is involved in the formation of 1,25 dihydroxyvitamin D.  Therefore, if a magnesium deficiency did occur as in those with serious illness, alcoholism, prolonged vomiting and diarrhea, or intestinal malabsorption, this could possibly adversely affect calcium absorption and therefore bone strength (Combs, 1998; Dowd, 2001; Risco, Traba, de la Piedra, 199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440" y="4343400"/>
            <a:ext cx="5638680" cy="4495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tein-energy malnutrition during childhood or adolescence may retard growth and reduce body strength and peak bone mass (Toss, 1992).  However, it has also been suggested that a high-protein diet may increase the risk of osteoporosis as a result of increases in urinary calcium excretion (Lau &amp; Woo, 1998).  The mechanism of increased urinary calcium excretion is thought to be a result of glomerular filtration rate (GFR) and the acid load from the sulphur containing amino acids methionine and cysteine (Marcus, 1982).  This increase in endogenous acid production mobilizes calcium from the skeleton to form salts to neutralize the acidity (Krieger, Sessler, &amp; Bushinsky, 19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ncerns about high-protein diets arose when studies showed increases in urinary calcium excretion (Heaney, 1993).  Although there is little evidence from clinical trials to support the observation that high dietary protein intake causes increased bone loss, result of observational epidemiologic studies do support this view.  Results from two ecologic studies indicate that the incidence of hip fracture is inversely related to the per capita consumption of protein (Abelow, Holford, &amp; Insogna, 1992; Hegsted, 1986).  While it is difficult to interpret these results because of the numerable confounding effects of other dietary components, these studies still lend concern to the issue of protein intake and osteoporosis develop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verage protein intake in many industrialized countries, including the U.S., is at least 50% above recommended levels (Krall &amp; Dawson-Hughes, 1999).  An average increase in dietary protein of 1 gram results in the loss of an additional 1 milligram of calcium in the urine (NAP, 2000; Krall &amp; Dawson-Hughes, 1999).  Such calcium losses could be important for individuals with a low usual calcium intake or impaired calcium absorption.  Current recommendations would result in a dietary calcium/protein intake ratio of 20mg calcium/1 g protein (Heaney, 1998; IOM, 199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ile protein has been shown to increase calcium excretion, its roles in calcium absorption and retention are controversial.  A twenty-year study conducted by Heaney (2000), on Catholic nuns, concluded that protein intakes, within the current U.S. intake levels, do not affect calcium absorption.  The research related to protein’s influence on osteoporosis is still controversial, but two things are known for sure: a) protein is necessary for bone and muscle health, and b) high levels of protein intake increase urinary calcium excretion (Powers et al.,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odium and calcium excretion are linked in the proximal renal tubule.  Sodium causes an increase in renal calcium excretion (Krall &amp; Dawson-Hughes, 1999).  For each 500-milligram increment in sodium excretion or intake, there is approximately a 10-milligram increase in the amount of calcium lost in urine (NAP, 200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udy conducted by Devine and colleagues (1995) on postmenopausal women, demonstrated the impact of sodium intake on the rate of bone loss at the hip.  The study identified an increasingly negative change in hip bone density with higher urinary sodium levels and with increasing sodium intakes between 1 and 6 grams per day.  The study further suggested that halving the current sodium intake of 121 mmol/d (or 2700 mg/day) would be equivalent to increasing dietary calcium by 22 mmol/d (or 890 mg/day) (Devine, Criddle, Dick, Kerr, &amp; Prince, 1995).  However, a study of pubertal females found no association between bone mineral density and urinary sodium excretion (Matkovic et al., 199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dies correlating high sodium intake with a decrease in bone mineral density raise concern due to the high salt content of processed foods and the quantity of these foods that Americans consume.  Reassuring information from a study by Massey and Whiting (1996) was that calcium intakes between 1000 milligrams and 2000 milligrams minimized bone loss in the hip area associated with diets high in sodium.  These calcium levels are within the new Dietary Reference Intakes (DRIs) recommendations and do not exceed the Tolerable Upper Limit values (ULs).</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nsumption of caffeine and its relationship to bone health is a controversial topic.  Caffeine is the most widely consumed psychoactive substance in the world with coffee supplying greater than 80% of the caffeine consumed by adults in the United States (Barone &amp; Grice, 1994).  Numerous studies have reported on caffeine as a possible risk factor for bone loss in adult women.  The results however have been contradic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veral studies have reported no association between caffeine intake and fracture frequency or changes in bone density (Johansson, Mellstrom, Lerner, &amp; Osterber, 1992; Lloyd, Rollings, Eggli, Kieselhorst, &amp; Chinchilli, 1997; McCullock, Bailey, Houston, &amp; Dodd, 1990; Tavani, Negri, &amp; LaVecchia, 1995).  Others, however, have reported small but significant increases in either fracture frequency or bone loss.  The most notable of these studies is the Framingham study that reported a 53% greater incidence of hip fracture in those who consumed more than two cups of coffee or four cups of tea after controlling for weight, sex, age, estrogen use, smoking and alcohol (Kiel, Felson, Hannan, Anderson, &amp; Wilson, 1990). Another noteworthy study was the Nurses Health Study of 84,000 women who were followed for 6 years.  The study found that women with the highest intake of coffee and the highest intake of caffeine (800 mg or more daily) had three times the rate of hip fractures as the no coffee/no caffeine group (Hernandez-Avila, Colditz, Stampfer, Rosner, Speizer, &amp; Willett, 199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ffeine ingestion causes a short-term (within 1—3 hours) increase in urinary calcium loss, but studies have failed to document sustained effects of caffeine on urinary or fecal calcium excretion (Krall &amp; Dawson-Hughes, 1999).  Among people who have low calcium intakes the effect may be of great importance as the body fails to adequately compensate for the additional calcium lo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effects of caffeine on bone mass in young women have also been a controversial topic.  A study conducted by Packard and Recker (1996) indicated that a moderate caffeine intake (one cup of coffee per day or 103 mg) appeared to be a safe level with respect to bone health.  However, another study conducted by Conlisk and Galuska (2000) did find that caffeine consumption decreased bone mineral density at various skeletal sites.  The study indicated that for every 100 mg of caffeine consumed, femoral neck BMD decreased 0.0069 g/cm2, and lumbar spine decreased 0.0119 g/cm2 (Conlisk &amp; Galuska, 2000).  Although there was no significant difference between those who consumed low levels of calcium and those who consumed high levels of calcium in this study, it stands to reason that such decreases over many years can increase a woman’s risk of osteoporosis significa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though sustained effects of caffeine on calcium excretion have not been observed in these studies, there is another aspect of this consumption that needs consideration; beverage replacement.  On any given day, half of all Americans drink carbonated soft drinks according to data collected for 1994-1996 (Gerrior et al., 1998).  The intake of these beverages has increased drastically among teenagers, younger adults, and women drinking low-calorie beverages, since 1970.  Annual food supply data show that per capita consumption of regular carbonated soft drinks increased from 22 gallons in 1970 to 40 gallons in 1994 and to 41 gallons in 1997 (Gerrior et al., 1998).  Whether caffeine affects over all calcium excretion is important, but the fact that carbonated beverages are replacing calcium-rich drinks needs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ong-term effects of frequent caffeinated beverage intake must be conducted before a consensus about the true relationship between caffeine and calcium can be decided upon.  If caffeine increases calcium excretion for 1-3 hours, it stands to reason that a person who consumes 3-4 caffeinated beverages a day will have a significant loss of calcium in their urin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hytoestrogens such as isoflavones, which are found in many soy foods and supplements, have a chemical structure that causes them to act in the body like the estrogenic hormone estradiol (Anderson, 1999; Messina, 1995; Messina, 1999).  The lower rate of hip fracture among Japanese women in comparison to US women is often cited as providing support for the protective effect of isoflavones (Ross et al., 1991).  However, this argument is without merit (Messina, 199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 is some evidence that soy may reduce bone turnover as measured in urine and serum bone markers (Alekel, St. Germain, &amp; Peterson, 2000; Pennington &amp; Schoen, 1996; Messina, Gardner, &amp; Barnes, 2002).  However, researchers at Creighton University found no effect on spine and femur bone mineral density in early postmenopausal women (Heaney, Dowell, Rafferty, &amp; Bierman, 2000).  Although soy has nutritional value, its effects on bone seem to be small and of tentative clinical impor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veral studies have been conducted to compare the antiresporptive effect of estrogen replacement in postmenopausal women versus that of soy isoflavones (Heaney et al., 2000; Setchell, 2000).  However, in both of these studies, there was not a greater bioavailability of soy isoflavones.  In fact, calcium in fortified soy milk was not absorbed as efficiently as calcium from non-soy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though several animal studies indicate a potential benefit in the inhibition of bone resorption as a result of soy isoflavones (Anderson, Ambrose, &amp;  Garner, 1995; Brandii, 1992) there have not been consistent results when applied in human models.  There are several areas left unanswered that are necessary to delineate the effects of soy fully or to allow making any recommendations (Dowd, 2001).  Information regarding efficacy, safety, which isoflavones have the greatest effect, and amounts of isoflavones necessary for measurable benefit, are necessary to provide accurate recommendation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e is living tissue that responds to exercise by becoming stronger and denser.  There are two types of exercises that are important for building and maintaining bone strength and density: weight-bearing and resistance exercises (NOF, 2000).  The specific characteristics of physical activity that are most important for influencing bone are not completely understood, but research indicates that high mechanical loads may be more osteotropic than low-intensity loads (Taaffe, Robinson, Snow, &amp; Marcus, 1997).  Additionally, the number of repetitions has been shown to make modest effects of bone mass (Carter, Fyrie, &amp; Whalen, 1987; Rubin &amp; Lany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ever, conclusions about the effects of exercise in the prevention of osteoporosis are still vague.  Research seems to be inconclusive about the types of recommendations that should be made.  The majority of osteoporosis researchers would probably agree that recommending physical activity is important for improving balance, muscle tone, flexibility, strength, and coordination; all aspects that could prevent falls and low-trauma fractures (American College of Sports Medicine [ACSM], 1995).  Yet questions remain as to what types of activities, for how long, how often, at what intensity, and should the activities be site specific?  Much research exists that indicates simply physical activity in itself can help prevent osteoporosi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with other areas of osteoporosis research, a lot of information is available for older populations.  The few studies that exist for younger, premenopausal women lend support to the information that has been acquired while studying older populations.  In a study conducted by Turner and colleagues, women who participated in the NHANES III study over the age of 50 were reviewed.  The study identified physical activity as a greater predictor for fracture than heredity, smoking status, alcohol use, and dairy product intake (Turner, Leaver-Dunn, DiBrezzo, &amp; Fort, 1998).  The study revealed that inactive women were 84% more likely to suffer a fracture than females who were active 2 or more times per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study conducted by Mitchell and colleagues followed 2,567 women for an average of 11 years.  This study reviewed the risk of developing osteoporosis based on cardiorespiratory fitness.  The study revealed that the more fit a woman was, the less likely she was to develop physician diagnosed osteoporosis during the time frame of the study.  After the researchers adjusted for age, body mass index, high blood pressure, cigarette smoking, alcohol consumption, and diabetes, they found that low fit women were 1.8 times more likely to develop osteoporosis than moderate or high fit women (Mitchell, Wei, Gibbons, &amp; Blair, 199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dies reviewing the types of activities women participate in and their risk for osteoporosis have also been conducted.  One study recently published by Turner and colleagues (2002) indicated that yard work and weight training were strong and independent predictors for positive bone density.  Again, data from the Third National Health and Nutrition Examination Survey (NHANES III) were used to study the relationship between exercise mode, frequency, and bone health (Turner, Bass, Ting, &amp; Brown, 2002).  Other activities were also identified as moderate predictors for positive bone density such as bicycling, aerobics, walking, and dancing (Turner et al., 200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st of the data related to young adult women between the ages of 18-35 comes from cross-sectional studies comparing bone mineral density (BMD) of female athletes to that of a sedentary group.  Direct measurements of bone mass have shown a positive correlation between spinal BMD and reported leisure time activity in healthy young women (Kanders, Dempster, &amp; Lindsay, 1988).  In this study, calcium and physical activity were independent determinants of BM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re have been few prospective studies of an exercise effect on bone mass in this age group.  In a study conducted by Snow-Harter and colleagues (1992), jogging or aerobic exercise for 20-30 minutes three times a week increased lumbar spinal bone mineral density by 1 percent in premenopausal women.  Additionally, a study conducted by Bassey and Ramsdale (1994) found a significant increase of 3.4% in trochanteric bone density in a group of high-impact exercisers when compared to low-impact exercisers.  Although these increases may seem to be small, any increase in bone mineral density that can delay the onset of osteoporosis or the complications of low bone density are important to consider and should not be discarded as being without mer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dies of athletes show that the BMD of loaded bones can be more than 30% higher in most studies and between 5% and 20% higher in most sites than that of unloaded bone or of the same bones in non-athletic control subjects (Vuori, 1996). However, for young women who are high-performance athletes, physical activity may increase their risk of osteoporosis. Intensive training that results in an extreme loss of body fat, disordered eating and estrogen deficiency can lead to bone loss (Vuori, 1996). The combination of osteoporosis, menstrual irregularities, and disordered eating is known as the female athlete triad (Sabatini, 200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ny young female athletes experience a cessation in their menstrual cycles called amenorrhea.  Several studies have reported low bone densities among these women (De Cree, Vermeulen, &amp; Ostyn, 1991; Licata, 1992; Fabbri et al., 1991).  Low bone densities result in a greater risk for stress fractures and other more devastating fractures of the hip and spine (Bass, Turner, &amp; Hunt, 2001).  Furthermore, research has indicated that premature osteoporosis occurring in female athletes may be irreversible even with calcium supplementation, resumption of menses, or estrogen replacement therapy (Drinkwater, Bruemner, &amp; Chestnut, 19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extent of exercise’s influence on osteoporosis and its ability to induce bone density increases is still uncertain.  Results from these studies vary according to age, hormonal status, nutrition, and exercise prescription.  Regardless of the uncertainty from research results, expert panels such as the American College of Sports Medicine, recommend weight-bearing activity and activities that improve strength, flexibility, and coordination to prevent osteoporosis and falls respectively (ACSM, 1995).</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udies have indicated that alcohol suppresses bone formation.  Since women are more prone to osteoporosis than men, the effects of alcohol may have a greater effect on their bones (Laitinen, Karkkainen, Lalla, Lamber-Allardt, Tunninen, Tahtela, et al., 1993).  The evidence for the adverse effects of alcohol on bone mineral density (BMD) comes primarily from case control studies.  However, in a 14-year longitudinal study, the rate of bone loss in men who drank regularly was faster than in controls (Slemenda, Christina, Reed, Reister, Williams, &amp; Johnston, 1992).  Similarly, BMD in premenopausal women who drank regularly was also found to be lower than in matched controls (Arden, 199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cohol is capable of increasing one’s risk of osteoporosis or fracture through several different methods.  First, alcohol abuse may bring about hypoestrogenism with consequent menstrual irregularities and amenorrhea (Mello, Mendelson, &amp; Teoh, 1989; Van Thiel &amp; Gavaler, 1990).  These irregularities can depress osteoblastic activity (Lappe, 1994).  This can lead to an imbalance between the resorptive osteoclastic activity and the formative osteoblastic activity progressing to decreased bone mineral density (Thomas, 199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cohol can also lead to interference with proper nutrition, especially calcium and vitamin D intake.  Individuals who consume moderate to excessive amounts of alcohol often have an imbalanced diet with a decreased consumption of calcium (Wardlaw &amp; Weese, 1995).  Additionally, research has revealed that alcoholics have a reduced ability to produce 1,25 dihydroxyvitamin D in the renal tubules (Wardlaw &amp; Weese, 1995).  By consuming a calcium deficient diet and not having an adequate capacity to produce vitamin D, which is necessary for calcium absorption, the consumption of alcohol can lead to an inability of the bone to reach its maximum streng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final way that alcohol can increase one’s risk of fractures is due to balance difficulties experienced during inebriation which can increase the risk for falls.  If a woman with poor bone health falls, she is more likely to break a bone than a women with good bone health (Thomas, 1997).  All in all, alcohol may not have a direct influence on bone health, but through indirect means, a lifestyle that involves alcohol intakes of more than one drink per day can increase one’s risk of osteoporosis or osteoporotic fracture (Laitinen &amp; Välimäki, 1993).</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moking puts women at risk for osteoporosis because smoking decreases serum estrogen (Thomas, 1997). A loss of estrogen leads to a decreased osteoblastic action progressing to an imbalance between resorption and formation.  Estrogen also plays a role in the absorption of calcium, an essential nutrient in the formation of strong bones (Wardlaw &amp; Weese, 1995).  Additionally, smokers tend to have leaner body masses perhaps because of the interference of smoking with eating (Mazess &amp; Barden, 1991).  This combination of low estrogen and low body weight can lead to an increase in risk for osteoporo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moking is recognized as a risk factor for vertebral, forearm, and hip fractures (Hollenbach, Barrett-Connor, Edelstein, &amp; Holbrook, 1993). Previous research indicates that women, who smoke throughout adulthood will, by the time of menopause, have an average deficit of 5 to 10 percent in bone density (Hopper &amp; Seeman, 1994). Additionally this same study found that for every 10 pack-years of smoking, a 2% decrease in lumbar spine BMD, 0.9% decrease in femoral neck BMD, and 1.4% decrease in femoral shaft BMD were observed. Such percentages are sufficient to increase the risk of fra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with other diseases associated with smoking, cessation can result in some positive effects.  A study conducted by Cornuz and colleagues (1999) observed that smokers are at an increased risk of hip fracture and their risk rises with greater cigarette consumption.  However, the risk declined among former smokers, but the greatest benefit was not observed until 10 years after cessation (Cornuz, Feskanich, Willett, &amp; Colditz, 1999).  The authors did identify that part of the benefit realized was associated with a difference in body weigh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steoporosis is a multifaceted disease.  One of the potential risk factors associated with disease development is family history. Lindsay and Dempster (1985) state that 75% of osteoporosis cases have a family history component. However, the degree to which this is due to genetics or to environment is debatable (Wardlaw, 1988).  The most commonly cited studies supporting a genetic component are twin studies.  These studies have estimated the heritability of bone density of the lumbar spine to be as high as 92% in premenopausal women (Pocock, Eisman, Hopper, Yeates, Sambrook, &amp; Elberl, 1987) and around 70% for the femoral neck (Slemenda, Hui, Longcope, Wellman, Johnston, 1990).   Additionally, other twin studies have shown a genetic effect but after the age of 25, the effect was no longer significant (Dequeker, Nijs, Verstraeten, Geusens, &amp; Gevers, 1987).  This might suggest that other factors such as the environment play a role after a certain ag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earch indicates that women who have a family history of osteoporosis generally have lower bone densities putting them at greater risk for osteoporosis in the future (Evans, Marel, Lancaster, Kos, Evans, Wong, 1988; Ulrich, Georgiou, Snow-Harter, &amp; Gillis, 1996; Francois, Benmaler, Guaydier-Souquieres, Sabatier, &amp; Marcelli, 1999; Diaz, O’Neill, &amp; Silman, 1997).  Several studies have been conducted on mother-daughter pairs to identify familial similarities in osteoporosis risk.  A study by McKay and colleagues (1994) observed positive mother-daughter correlations ranging from 0.57 (p&lt;0.05) for the proximal femur to 0.38 (NS) for the third lumbar vertebrae. Additionally, a study done by Krall &amp; Dawson-Hughes (1993) observed estimates of heritability at peripheral sites such as the radium and os calcis.  These studies indicate that women who have a family history of osteoporosis should be encouraged to have bone density scans and to participate in preventive behavio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lthough women with a family history of osteoporosis should be advised to care for themselves and to practice osteoporosis prevention behaviors, women without a family history should not consider themselves safe.  Measures of family resemblance often do not clearly differentiate the relative contributions of shared environmental factors and genetic factors (Tudor-Locke &amp; McColl, 2000).  Genetic interactions may be as complex as inadequate vitamin D receptors to as simple as children emulating their parents’ cooking and exercise behaviors.  Additionally, in trying to assess one’s risk of osteoporosis, simply considering the maternal side of the family tree may not be adequat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n offspring is a combination of genes from two parents and a combination of behaviors from two parents.  As a result, a person may be susceptible to the development of osteoporosis independent of family history.  Consequently, every woman should be aware of her familial history related to osteoporosis, but she should also assume personal responsibility in her prevention of developing this disease.</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incidence of hip fracture and osteoporosis varies widely among ethnic groups.  The highest rates have been reported among whites of northern European ancestry (Luckey, Wallenstein, Lapinski, &amp; Meier, 1996). Research indicates that women of Asian descent are also more likely to develop osteoporosis yet are less likely to experience osteoporotic hip fracture (Hirota, Nara, Ohguri, Manago, Hirota, 1992; Mackelvie, McKay, Khan, &amp; Crocker, 2001).  Studies report differences in body size, diet, and physical activity between Caucasian and Asian girls (Mackelvie et al, 2001).  Typically, Asian girls consume about 480mg of calcium per day and participate in far fewer weight bearing activities than Caucasian girls.  However, Asian girls also consume more plant based foods and plant sources of protein which may serve as a protective factor (Mackelvie et al., 200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ther studies have substantiated the reduced risk of hip fracture among Asian women as compared to Western Caucasian women.  Life- and work-style differences between these cultures (i.e. sleeping on hard floors vs. beds, sitting on hard floors vs. couches, walking vs. driving) may be responsible for part of this reduced risk (Fujita, 1994).  This is further supported with the increase in hip fractures among native Japanese women with the progressive Westernization of the Japanese lifestyle (Fujita, 199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lthough Asian women seem to have less risk for osteoporotic hip fracture, it may not be due to the adherence to osteoporosis prevention behaviors.  Studies have shown that Asian women have similar osteoporosis risk factors as Caucasian women, such as low calcium intake and lack of physical activity (Lau, Suriwongpaisal, Lee, De, Festin, Saw, et al., 2001).  Additional risk factors found to be influential in the development of osteoporosis among Asian women were the low intake of dairy product in childhood (due to lactose intolerance), frequency of dieting, and skipping meals; all similar to those of Caucasian women (Hirota et al., 1992).  However, the lack of osteoporotic hip fractures may be due to a lower center of gravity due to the shorter posture shared by many Asian women (Tudor-Locke &amp; McColl, 200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pared to those of African American or Hispanic ethnicities, White (non-Hispanic) and Asian women are at greater risk for osteoporosis (Pun, Chan, Chung, &amp; Wong, 1990).  However, the mechanism for this difference is not known. Some research indicates that African American and Hispanic women achieve a higher peak bone density and lose bone density after menopause at a slower rate (Luckey et al., 1996).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lthough research indicates that certain ethnicities are at a greater risk for osteoporosis than others, adherence to known osteoporosis prevention behaviors should be practiced.  Ethnicity is not merely one’s skin color.  Ethnicity involves traditions, practices, and environmental influences (Tudor-Locke &amp; McColl, 2000).  Overall, osteoporosis is a multifaceted disease in which ethnicity is just a small fraction of the puzzl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ssociation between osteoporosis and corticosteroids or glucocorticoids was made shortly after the first use of these drugs in humans in the 1950s (Eastell, 1995). Corticosteroid treatments are so strongly related to the development of osteoporosis that they negate other factors that may be protective (i.e. race) (Lucasey, 2001).  Corticosteroids are used for a variety of conditions such as asthma, rheumatoid arthritis, lupus, and inflammatory bowel disease.  Concern is high among health educators because the number of young people who report using steroid medications is increa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lucocorticoids affect bone in many ways.  They adversely affect bone formation, bone resorption, calcium entry into the body in the gut and calcium exit from the body in the renal tubule (Reid, 1997).  Osteoblasts are a group of bone cells primarily affected by glucocorticoids. These compounds affect osteoblasts by decreasing their proliferation, matrix synthesis, and decreasing their life span.  This effect is thought to be mediated in part by a reduction in the production of local growth factors such as insulin-like growth factor 1 (Manolagas &amp; Weinstein, 1999).  When osteoblasts activity is hindered or decreased, it stands to reason that bone density will be compromised and thereby increase one’s risk of frac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search has also revealed that steroid-treated patients experience a state of calcium malabsorption (Klein, Arnaud, &amp; Gallagher, 1977; Nordin, Marshal, Francis, &amp; Crilly, 1981).  Additionally, these patients experience a state of hypercalciuria which has been reported to be double of that in non-steroid using controls (Reid &amp; Ibberston, 1987).  Various therapy methods have been proposed to address the calcium deficit and imbalance.  Among these therapies is calcium supplementation of 2000mg per day.  Unfortunately, doses as high as 2400mg per day have shown to have no protective effect against the damage done by corticosteroids (Eastell, 1995; Reid, 1997; Yosipovitch, Hoon, &amp; Leok, 20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 addition to causing bone loss, glucocorticoids appear to lead to changes in the architectural integrity of bone (Daens, Peretx, de Maertelaer, Moris, &amp; Bergmann, 1999).  Since bone loss occurs rapidly in the first 6 to 12 months of steroid therapy with a 5% to 20% decrease in bone density, it has been estimated that between 30% and 50% of long-term corticosteroid users will experience fractures (Lukert &amp; Raiax, 19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spite all the information about glucocorticoid-induced osteoporosis, few patients are provided with information about side effects and few are counseled on how to help prevent secondary osteoporosis.  A study in England showed that only 6% of patients receiving glucocorticoid therapy received calcium supplementation (Peat, Healy, Reid, &amp; Ralston, 1995) while another study out of England showed that only 14% of patients received prophylactic medication (Walsh, Wong, Pringle, &amp; Tattersfield, 1996).  A further study conducted by Buckley and colleagues (1999) found that 58% of postmenopausal women received osteoporosis preventive treatment while using corticosteroids while premenopausal women and men were less likely to be tre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gardless of the route of administration, women who are utilizing corticosteroids, for any number of medical conditions, should receive counseling about ways to prevent secondary osteoporosis.  Several behaviors should be adhered to and they are consistent with recommendations for non-steroid users in the prevention of osteoporosis.  Women should receive primary prevention at the onset of corticosteroid therapy.  This should include dietary advice to increase calcium and vitamin D while reducing sodium and caffeine intake.  Women should also be counseled to participate in weight-bearing activities and to limit cigarettes and alcohol consumption.  Additionally, women should receive a baseline bone density scan and be prescribed medications that have demonstrated a bone-protective role in the use of corticosteroids such as bisphosphanates (Eastell, 1995).</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MPA is a progestin-only contraceptive that contains no estrogen.  In 1992, it was approved by the Federal Drug Administration (FDA) and since then has been utilized by many women who struggle with contraceptive adherence or have a difficult time remembering to use contraception (Kass-Wolfe, 2001).  There are numerous side effects of DMPA including menstrual irregularities including amenorrhea, weight gain, headaches, bloating of the abdomen or breasts, mood changes, and reduced libido (Kaunitz, 199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pot medroxyprogesterone acetate (DMPA) is an injectable progesterone contraceptive technique that is used by over 3.5 million women in over 90 countries of the world (Cundy, Evans, Roberts, Wattie, Ames, &amp; Reid, 1991; Mark, 1994).  It works by primarily inhibiting ovulation through the suppression of follicle-stimulating hormone (FSH) and luteinizing hormone (LH) levels and causing a decrease in estrogen levels (Kass-Wolff, 2001; Mark, 1994).  As a result, ovulation stops and in many women, with continued use, they become amenorrheic (Cundy, et al., 1991). Since the recognition of estrogen deficiency as a cause of bone demineralization is widely accepted, there is growing concern about the potential development of osteoporosis and fractures with this contraceptive technique (Mark, 1994).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ntraceptive methods that decrease bone density in a population already deficient in calcium are a rising concern in women’s health (Kass-Wolff, 2001). Studies indicate that women who use Depo-Provera, for a year or longer, have lower bone densities when compared to women who do not use this medication (Bahamondes, Perrotti, Castro, Faundes, Petta, &amp; Bedone, 1999).  Other studies have supported this finding.  A study conducted by Cundy and colleagues (1991) demonstrated that users of DMPA for 5 or more years had a significant reduction in bone density as compared to nonusers: lumber spine -7.5% and femoral neck -6.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loss of bone density occurs rapidly when using Depo-Provera (Cundy &amp; Reid, 1997). In a study by Cromer and colleagues (1996), the researchers compared subjects who used oral contraceptives, Norplant, and DMPA to non-contraceptive users.  At the end of one year, the researchers found that bone density significantly decreased by 1.5% in the DMPA users when compared to the controls. Additionally, at the end of two years a significant bone density decrease of 3.1% was observed (Cromer, Blair, Mahan, Zibners, &amp; Naumovski, 199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earch indicates that the use of Depo-Provera should be approached with caution.  Counseling about this contraceptive is vital for women to understand the potential detrimental side effects.  Although the loss of bone mass when using DMPA is considered to be temporary (Cromer et al., 1996) and reversible after treatment is discontinued, it is important to realize that the window of bone mass accrual is small and should be maximized. As a result, if bone density is decreased for 2-3 years due to DMPA use, these women are potentially at risk for achieving a lower peak bone mass due to this setback and therefore are at a greater risk of osteoporosis and fracture.</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lang="en-US" sz="800" spc="-1" strike="noStrike">
                <a:solidFill>
                  <a:srgbClr val="000000"/>
                </a:solidFill>
                <a:latin typeface="Arial"/>
              </a:rPr>
              <a:t>Many young women choose oral contraceptives for various reasons other than their primary purpose of contraception.  Oral contraceptives may be chosen to reduce menstrual cramps, regulate menstrual cycles, or as partial treatment for endometriosis.  Research related to the effect of oral contraceptives as a means of osteoporosis prevention is inconclus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veral research studies have been conducted that show positive relationships between oral contraceptive use and the prevention of bone loss.  These studies have been conducted on women at various ages and at various life stages.  One of the most referred to studies was conducted by Kleerekoper and colleagues (1991).  This cross-sectional, retrospective study of over 2200 women found that women with a history of oral contraceptive use were significantly more likely to have high bone mineral density measurements than those who did not have a history of oral contraceptive use (Kleerekoper, Brienza, Schultz, &amp; Johnson, 1991).  Additionally, a significant increase in bone mineral density was found with greater than 10 years of oral contraceptive use.  The limitations of this study was that is did not control for smoking or exercise (Kleerekoper et al., 199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udy conducted by Lindsay, Tohme, and Kanders (1986) compared the bone density at various stages of life in women who ever used oral contraceptives versus those who never used oral contraceptives (OCs).  An increase in bone mass of about 1% per year was observed among premenopausal women who had used OCs versus nonusers while there was no difference observed between matched-controls in the postmenopausal group (Linsay et al., 198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ile many research projects indicate that oral contraceptives have an independent positive effect on bone density (Cooper, Hannaford, Croft, &amp; Kay, 1993; Recker et al., 1992; Van Winter &amp; Bernard, 1998), other research indicates no effect on bone density.  In a study by Mazess and Barden (1991) the effect of oral contraceptive (OC) use on bone density was evaluated in 300 women between the ages of 20 and 39.  The authors controlled for calcium intake, exercise, and smoking.  No association was found between OC use and bone dens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dditional studies have not found a positive association between OC use and bone density. A study by Collins and colleagues (1988), found no significant differences in the lumbar bone mineral content, central density, or bone mineral density measurements between OC users and non-users.  These subjects were matched for age, weight, and height.  Furthermore, this study did not find a significant difference between the groups and the duration of oral contraceptive use which was up to 84 months in duration (Collins, Thomas, Harding, Cook, Turner, &amp; Collins, 198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variation in the findings of these studies can be related to many factors including study design, mode of bone density measurement, oral contraception composition, and duration of use.  Many of the studies that reported positive associations between bone mineral density and oral contraception use reviewed women who used OCs when they contained 50μg or more of estrogen.  Today’s oral contraceptive is considered low-dose and contains between 20μg and 40μg of estrogen.  As a result, the lower dose of estrogen may prevent OCs from having positive effects on bone mineral density.  Although they may not assist by increasing bone mineral density, OCs may slow down bone loss suppressing bone resorption which is evident in lower urinary calcium excretions (Shargil, 198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search regarding osteoporosis prevention and oral contraception use is controversial.  Those who may improve their bone density with the use of OCs are women who are already hypoestrogenic, have irregular menstrual cycles, or women who have other conditions that interfere with their estrogen producing capabilities.  Although some protection may be offered for these special populations, women should not fall under the misperception that they are completely protected from osteoporosis development due to their use of OCs. Protecting oneself from this multifaceted debilitating disease requires attention to multiple prevention strategies.</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ordered eating refers to the spectrum of abnormal and harmful eating patterns used in a misguided attempt to lose weight or maintain a lowered body weight (Beals, Brey, &amp; Gonyou, 1999).  Because lower bone mineral density is one potential physiological consequence of eating disorders, the risk for osteoporosis among women afflicted with these diseases is greater (Clark, 1997).  Both anorexia nervosa and bulimia nervosa and their associated behaviors increase a woman’s risk for the development of osteoporo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orexia nervosa is a chronic illness that affects 1% of adolescent females and is characterized by a fear of fatness, self-imposed semistarvation and weight loss.  Additionally, the illness has a high morbidity and is eventually fatal in 10-15% of cases (Seeman, Szmukler, Formica, Tsalamandris, &amp; Mestrovic, 1992).  Common clinical features of anorexia nervosa are estrogen deficiency (accompanied by amenorrhea) and a significant reduction in body weight (Treasure &amp; Serpell, 20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ronic anorexia nervosa is known to lead to osteopenia and osteoporosis in adults (Rigotti, Neer, Skates, Herzog, &amp; Nussbaum, 1991; Seeman et al., 1992).  Estrogen status is likely to be a major cause of osteopenia and osteoporosis in patients with anorexia nervosa (Treasure &amp; Serpell, 2001).  The occurrence of estrogen deficiency during the first three decades of life can increase the risk of osteoporosis by preventing the attainment of peak bone density and by causing accelerated bone loss (Seeman et al., 19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her factors that may be related to the development of osteoporosis in women with anorexia nervosa are nutritional intake and physical activity.  Due to the intense fear of being fat, many anorexics strictly limit their caloric intake.  To limit their caloric intake they consume foods that are low calorie which oftentimes excludes foods rich in calcium such as dairy products (Treasure and Serpell, 2001).  This extreme dietary limitation often limits their intake of other necessary nutritional components for bone health such as protein and vitamin 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sides severely limiting dietary intake, anorexics participate in excessive physical activity (Seeman et al., 1992).  Although weight-bearing exercise can help protect against osteoporosis, excessive exercising can be associated with leanness and amenorrhea.  Studies have been conducted to evaluate the effect of amenorrhea in young women suffering from anorexia nervosa.  A study by Davies, Hall, and Jacobs, (1990) showed that the mean bone density was 15% lower for women with amenorrhea than age-matched controls and was related to the duration of amenorrhea and the severity of estrogen deficiency.  This loss in bone density is not regained upon recovery from anorexia nervosa.  A study by Hartman and colleagues (2000) found that for women who had been clinically recovered from anorexia nervosa on average of 21 years, their bone mineral density did not fully return to normal.  This was especially true when reviewing the BMD of the femur (Hartman, Crisp, Rooney, Rackow, Atkinson, &amp; Patel,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isk of osteoporosis occurring in other eating disorders has also been investigated.  Studies reviewing women formally diagnosed with bulimia nervosa and other nonspecified eating disorders have been found to have significantly lower bone mineral densities than expected when compared to control data (Anderson, Woodward, &amp; Lafrance, 1995).  These results are not completely surprising because between 50%-60% of patients with a current diagnosis of bulimia nervosa have a previous history of anorexia nervosa (Fairburn &amp; Hope, 198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ile amenorrhea is a diagnostic criterion for anorexia, menstrual irregularities occur in only about half of patients with bulimia (Seidenfeld &amp; Rickert, 2001).  Although menstrual irregularities may not be enough to increase risk of osteoporosis in bulimic patients, the compensatory behaviors of self-inducing vomiting, abuse of laxatives and diuretics, abuse of diet pill, and caloric restriction can all affect bone health.  Not consuming adequate calcium and other nutritional components necessary for bone health may influence the density and strength of bones later in life.  However, at this time, no studies have identified an increased risk of osteoporosis fractures in previous or current bulimia nervosa patients (Seidenfeld &amp; Rickert, 2001).</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steoporosis is a multifaceted disease.  Multiple factors have been implicated in the development of osteoporosis including dietary factors, heredity, ethnicity, lifestyle factors, medication use, and eating disorders.  Although some of these factors are not alterable, the majority of them can be changed.  Through the dissemination of osteoporosis prevention materials and information health educators and other health professionals will increase knowledge about osteoporosis, increase osteoporosis prevention behaviors, and reframe the attitudes of women and men about their risk for developing this debilitating disea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steoporosis is a major public health concern in the United States.  An estimated 28 million Americans are already afflicted with this disease and approximately 1.5 million new fractures occur each year (Barefield, 1996; Boughton, 1999; Krall &amp; Dawson-Hughes, 1999; National Institutes of Health (NIH), 2000).  In addition to those already afflicted, another 18 million Americans have low bone density, placing them at risk for this disorder (NIH, 2000).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steoporosis is a painful, sometimes crippling disease.  The incidence of osteoporosis has reached epidemic levels in the United States and is responsible for considerable death, illness, loss of independence, decreased quality of life, and associated economic costs (Gerrior, Putnam, &amp; Bente, 1998; National Osteoporosis Foundation [NOF], 1998).  Estimates for the United States indicate that 13-18% of women over the age of 50 are afflicted with osteoporosis.  Even more startling is the estimate that another 37-50% of women over 50 have some degree of osteopenia or low bone density (Barefield, 1996; Gerrior, et al., 1998).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actures that are a result of bone fragility account for extensive morbidity, mortality, and loss of function (Lappe, 1994; Turner, Taylor, &amp; Hunt, 1998; Ullom-Minnich, 1999).  The financial costs associated with osteoporotic fractures include direct medical charges, rehabilitation, and extended treatment facilities.  Osteoporosis-related hip fractures alone result in estimated costs of $12.8 billion to $17.8 billion per year.  Rehabilitation and institutionalization account for approximately 40% of these costs while less than 1 percent is due to lost productivity (Barefield, 1996).  Rehabilitation and institutionalization costs are the largest majority since almost half of the individuals hospitalized with osteoporosis-related hip fractures never fully recover.  Twenty-five percent of the total hip fractures result in the person being severely handicapped.  Another 20% of these people die within one year of a hip fracture (Barefield, 1996; Lappe, 1994).  As the population subgroup of Americans over the age of 65 grows, estimates indicate osteoporosis-related costs will be greater than $62 billion by 2020 and $200 billion by the year 2040 (Barefield, 1996; Cummings, Rubin, &amp; Black, 1990).</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steoporosis is a complex multifactorial condition characterized by low bone mass and deterioration of bone tissue, with a consequent increase in bone fragility and susceptibility to fracture (Notelovitz, 1993; Siddiqui, Shetty, &amp; Duthie, 1999).  Osteoporosis is often referred to as the </a:t>
            </a:r>
            <a:r>
              <a:rPr b="0" i="1" lang="en-US" sz="1200" spc="-1" strike="noStrike">
                <a:solidFill>
                  <a:srgbClr val="000000"/>
                </a:solidFill>
                <a:latin typeface="Arial"/>
              </a:rPr>
              <a:t>silent thief</a:t>
            </a:r>
            <a:r>
              <a:rPr b="0" lang="en-US" sz="1200" spc="-1" strike="noStrike">
                <a:solidFill>
                  <a:srgbClr val="000000"/>
                </a:solidFill>
                <a:latin typeface="Arial"/>
              </a:rPr>
              <a:t> because osteoporotic bone loss takes place gradually throughout the course of many years without any signs or symptoms (Boughton, 1999).  This reduction in bone mineral density (BMD) later manifests itself as low-trauma fractu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better understand osteoporosis, it is helpful to understand the process of bone formation.  Bone is living tissue that is constantly being renewed in a two-stage process of formation and resorption that occurs throughout life (Boughton, 1999).  During different life stages, the balance of these processes may weigh heavier in one direction than the other.  For example, during adolescence, bone formation occurs at a greater rate than bone resorption.  The formation stage is characterized by the building of new bone to replace old bone by cells called osteoblasts.  The resorption phase is characterized by a higher level of bone breakdown than formation as a result of cells called osteoclasts (Boughton, 1999; Smith, 199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main type of bone that are recognized: trabecular or spongy bone (25%) and cortical or compact bone (75%) (Smith, 1993).  Trabecular bone forms the internal support system of the bone and is metabolically more active than cortical bone (by about ten times) (Notelovitz, 1993; Smith, 1993; Wardlaw, 1993).  Cortical bone makes up the outer shell of bone and predominates in the shafts of long bones.  Although each bone in the body contains both cortical and trabecular bone, the relative proportions differ.  In osteoporosis, both cortical thinning and a loss of trabecular support are evident (Wardlaw, 1993).  However, trabecular bone loss occurs at a greater rate thereby increasing fracture risk in areas where trabecular bone makes up the largest portion of the bone’s structure such as in the vertebrae, wrist, and the ends of long bones (i.e. the hip) (Boughton, 1999; Physicians Desk Reference (PDR), 1999; Smith, 1993; Wardlaw, 199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steoporosis is not always a result of bone loss and can be characterized as either primary or secondary in nature.  Primary osteoporosis can occur in both genders at all ages but often follows menopause in women and occurs late in life in men (NIH, 2000).  Postmenopausal osteoporosis is known as primary osteoporosis Type I and is characterized by an increased bone resorption that primarily affects trabecular bone.  Type I primary osteoporosis is directly linked to the decreased production of estrogen that coincides with menopause (Peterson, 2001; Wardlaw, 1993).  Rapid bone loss is osteoclast-mediated and occurs in women within the first 5 to 10 years after menopause (Peterson, 2001).  Primary osteoporosis Type II is a slow bone loss resulting from a proportionate loss of trabecular and cortical bone usually due to a decrease in bone cell activity accompanying aging.  This type of osteoporosis predominately afflicts men and women over the age of 70 years and is called senile osteoporosis (Glaser &amp; Kaplan, 1997; Peterson, 2001; Wardlaw, 199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ary osteoporosis usually occurs as a result of another disease or medication.  The most common medical conditions include chronic renal disease, hypogonadism, hyperthyroidism, Cushing’s disease, and some forms of cancer (Wardlaw, 1993).  Surgical procedures such as an early oophorectomy or total gastrectomy, can lead to bone loss.  Additionally, some medications including anticonvulsants, corticosteroids, Depo-Provera, and Heparin, have toxic effects on bone and increase bone loss (Glaser &amp; Kaplan, 1997; Kulak, Schussheim, McMahon, Kurland, Silverber, Siris, et al.., 2000; Peterson, 2001).  Regardless of the cause of osteoporosis, the consequences are devastating to the financial, physical, and psychosocial aspects of one’s health (NIH, 2000; Donohue, 1999; National Osteoporosis Foundation [NOF], 2000; Moon, 2000).</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earchers agree that osteoporosis is not age- or gender-dependent in who it targets.  While white postmenopausal women have the highest incidence of osteoporotic fractures, and most of our knowledge about diagnosis and treatment is derived from research on this population, the disease does not go unrecognized in other ages and races, or in men (Moon, 2000).  However, in comparison to men, women are at higher risk for developing osteoporosis and have a lifetime risk of an osteoporotic fracture as high as one in three (Mark &amp; Link, 1999).  One third of women aged 65 and older will have at least one vertebral fracture in their lifetime and 33% will experience a hip fracture by age 90 (Aufdemorte, 1991).  </a:t>
            </a:r>
            <a:r>
              <a:rPr b="0" lang="en-US" sz="1000" spc="-1" strike="noStrike">
                <a:solidFill>
                  <a:srgbClr val="000000"/>
                </a:solidFill>
                <a:latin typeface="Arial"/>
              </a:rPr>
              <a:t>	</a:t>
            </a:r>
            <a:r>
              <a:rPr b="0" lang="en-US" sz="1000" spc="-1" strike="noStrike">
                <a:solidFill>
                  <a:srgbClr val="000000"/>
                </a:solidFill>
                <a:latin typeface="Arial"/>
              </a:rPr>
              <a:t>However, due to the diseases’ </a:t>
            </a:r>
            <a:r>
              <a:rPr b="0" i="1" lang="en-US" sz="1000" spc="-1" strike="noStrike">
                <a:solidFill>
                  <a:srgbClr val="000000"/>
                </a:solidFill>
                <a:latin typeface="Arial"/>
              </a:rPr>
              <a:t>silent</a:t>
            </a:r>
            <a:r>
              <a:rPr b="0" lang="en-US" sz="1000" spc="-1" strike="noStrike">
                <a:solidFill>
                  <a:srgbClr val="000000"/>
                </a:solidFill>
                <a:latin typeface="Arial"/>
              </a:rPr>
              <a:t> nature, there are few reliable statistics on how many women, including young women, are already developing low bone density and osteoporosis. A study conducted by Tokar and colleagues among a convenient sample of 165 college-aged women found 1% of the participants to already have osteoporosis and an additional 14% of the participants to have low bone density or osteopenia (Tokar, Ford, Turner, &amp; Denny, 200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steoporosis is a condition normally associated with elderly women.  However, an increase in the number of women in their 20s and 30s suffering from osteoporosis has been reported (Hart &amp; Dip, 1996).  Among postmenopausal women, factors associated with osteoporosis diagnoses include age, race, and family history (Turner et al., 1998).  Additional research indicates that other factors may also play a role in the development of this disease.  Among these are factors that are common among women who are younger than the age of menopause.  These other factors include low calcium intake, physical inactivity, smoking, excessive alcohol intake, use of steroid medications, and eating disorders (Hsieh, Novielli, Diamond, &amp; Cheruva, 2001; Moon, 2000).  The development of osteoporosis is associated with many risk factors that transcend ag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44" name="PlaceHolder 2"/>
          <p:cNvSpPr>
            <a:spLocks noGrp="1"/>
          </p:cNvSpPr>
          <p:nvPr>
            <p:ph/>
          </p:nvPr>
        </p:nvSpPr>
        <p:spPr>
          <a:xfrm>
            <a:off x="1294920" y="2361960"/>
            <a:ext cx="708660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5" name="PlaceHolder 3"/>
          <p:cNvSpPr>
            <a:spLocks noGrp="1"/>
          </p:cNvSpPr>
          <p:nvPr>
            <p:ph/>
          </p:nvPr>
        </p:nvSpPr>
        <p:spPr>
          <a:xfrm>
            <a:off x="1294920" y="4477320"/>
            <a:ext cx="708660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47" name="PlaceHolder 2"/>
          <p:cNvSpPr>
            <a:spLocks noGrp="1"/>
          </p:cNvSpPr>
          <p:nvPr>
            <p:ph/>
          </p:nvPr>
        </p:nvSpPr>
        <p:spPr>
          <a:xfrm>
            <a:off x="129492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8" name="PlaceHolder 3"/>
          <p:cNvSpPr>
            <a:spLocks noGrp="1"/>
          </p:cNvSpPr>
          <p:nvPr>
            <p:ph/>
          </p:nvPr>
        </p:nvSpPr>
        <p:spPr>
          <a:xfrm>
            <a:off x="492624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9" name="PlaceHolder 4"/>
          <p:cNvSpPr>
            <a:spLocks noGrp="1"/>
          </p:cNvSpPr>
          <p:nvPr>
            <p:ph/>
          </p:nvPr>
        </p:nvSpPr>
        <p:spPr>
          <a:xfrm>
            <a:off x="129492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0" name="PlaceHolder 5"/>
          <p:cNvSpPr>
            <a:spLocks noGrp="1"/>
          </p:cNvSpPr>
          <p:nvPr>
            <p:ph/>
          </p:nvPr>
        </p:nvSpPr>
        <p:spPr>
          <a:xfrm>
            <a:off x="492624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52" name="PlaceHolder 2"/>
          <p:cNvSpPr>
            <a:spLocks noGrp="1"/>
          </p:cNvSpPr>
          <p:nvPr>
            <p:ph/>
          </p:nvPr>
        </p:nvSpPr>
        <p:spPr>
          <a:xfrm>
            <a:off x="1294920" y="236196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3" name="PlaceHolder 3"/>
          <p:cNvSpPr>
            <a:spLocks noGrp="1"/>
          </p:cNvSpPr>
          <p:nvPr>
            <p:ph/>
          </p:nvPr>
        </p:nvSpPr>
        <p:spPr>
          <a:xfrm>
            <a:off x="3691080" y="236196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4" name="PlaceHolder 4"/>
          <p:cNvSpPr>
            <a:spLocks noGrp="1"/>
          </p:cNvSpPr>
          <p:nvPr>
            <p:ph/>
          </p:nvPr>
        </p:nvSpPr>
        <p:spPr>
          <a:xfrm>
            <a:off x="6087240" y="236196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5" name="PlaceHolder 5"/>
          <p:cNvSpPr>
            <a:spLocks noGrp="1"/>
          </p:cNvSpPr>
          <p:nvPr>
            <p:ph/>
          </p:nvPr>
        </p:nvSpPr>
        <p:spPr>
          <a:xfrm>
            <a:off x="1294920" y="447732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6" name="PlaceHolder 6"/>
          <p:cNvSpPr>
            <a:spLocks noGrp="1"/>
          </p:cNvSpPr>
          <p:nvPr>
            <p:ph/>
          </p:nvPr>
        </p:nvSpPr>
        <p:spPr>
          <a:xfrm>
            <a:off x="3691080" y="447732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7" name="PlaceHolder 7"/>
          <p:cNvSpPr>
            <a:spLocks noGrp="1"/>
          </p:cNvSpPr>
          <p:nvPr>
            <p:ph/>
          </p:nvPr>
        </p:nvSpPr>
        <p:spPr>
          <a:xfrm>
            <a:off x="6087240" y="447732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A47050-BB09-46C1-AC45-33B1766E5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83" name="PlaceHolder 2"/>
          <p:cNvSpPr>
            <a:spLocks noGrp="1"/>
          </p:cNvSpPr>
          <p:nvPr>
            <p:ph type="subTitle"/>
          </p:nvPr>
        </p:nvSpPr>
        <p:spPr>
          <a:xfrm>
            <a:off x="1294920" y="2361960"/>
            <a:ext cx="7086600" cy="4049640"/>
          </a:xfrm>
          <a:prstGeom prst="rect">
            <a:avLst/>
          </a:prstGeom>
          <a:noFill/>
          <a:ln w="0">
            <a:noFill/>
          </a:ln>
        </p:spPr>
        <p:txBody>
          <a:bodyPr lIns="0" rIns="0" tIns="0" bIns="0" anchor="ctr">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A436AE-8BDE-4FFB-BC4F-C5CD823D6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85"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4F2590-10D3-41A2-985A-E6720D4C3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87" name="PlaceHolder 2"/>
          <p:cNvSpPr>
            <a:spLocks noGrp="1"/>
          </p:cNvSpPr>
          <p:nvPr>
            <p:ph/>
          </p:nvPr>
        </p:nvSpPr>
        <p:spPr>
          <a:xfrm>
            <a:off x="129492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88" name="PlaceHolder 3"/>
          <p:cNvSpPr>
            <a:spLocks noGrp="1"/>
          </p:cNvSpPr>
          <p:nvPr>
            <p:ph/>
          </p:nvPr>
        </p:nvSpPr>
        <p:spPr>
          <a:xfrm>
            <a:off x="492624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BF6D8C-AF5A-469B-B8BF-1AD1DA080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60548B-7B2A-4B87-810E-A9FFFB0D2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295280" y="1218960"/>
            <a:ext cx="7848720" cy="4945680"/>
          </a:xfrm>
          <a:prstGeom prst="rect">
            <a:avLst/>
          </a:prstGeom>
          <a:noFill/>
          <a:ln w="0">
            <a:noFill/>
          </a:ln>
        </p:spPr>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72A531-45A1-4A8D-AFF2-32E3917E9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92" name="PlaceHolder 2"/>
          <p:cNvSpPr>
            <a:spLocks noGrp="1"/>
          </p:cNvSpPr>
          <p:nvPr>
            <p:ph/>
          </p:nvPr>
        </p:nvSpPr>
        <p:spPr>
          <a:xfrm>
            <a:off x="129492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93" name="PlaceHolder 3"/>
          <p:cNvSpPr>
            <a:spLocks noGrp="1"/>
          </p:cNvSpPr>
          <p:nvPr>
            <p:ph/>
          </p:nvPr>
        </p:nvSpPr>
        <p:spPr>
          <a:xfrm>
            <a:off x="492624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94" name="PlaceHolder 4"/>
          <p:cNvSpPr>
            <a:spLocks noGrp="1"/>
          </p:cNvSpPr>
          <p:nvPr>
            <p:ph/>
          </p:nvPr>
        </p:nvSpPr>
        <p:spPr>
          <a:xfrm>
            <a:off x="129492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D06368-843E-4308-B91A-6BA8622BE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23" name="PlaceHolder 2"/>
          <p:cNvSpPr>
            <a:spLocks noGrp="1"/>
          </p:cNvSpPr>
          <p:nvPr>
            <p:ph type="subTitle"/>
          </p:nvPr>
        </p:nvSpPr>
        <p:spPr>
          <a:xfrm>
            <a:off x="1294920" y="2361960"/>
            <a:ext cx="7086600" cy="4049640"/>
          </a:xfrm>
          <a:prstGeom prst="rect">
            <a:avLst/>
          </a:prstGeom>
          <a:noFill/>
          <a:ln w="0">
            <a:noFill/>
          </a:ln>
        </p:spPr>
        <p:txBody>
          <a:bodyPr lIns="0" rIns="0" tIns="0" bIns="0" anchor="ctr">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96" name="PlaceHolder 2"/>
          <p:cNvSpPr>
            <a:spLocks noGrp="1"/>
          </p:cNvSpPr>
          <p:nvPr>
            <p:ph/>
          </p:nvPr>
        </p:nvSpPr>
        <p:spPr>
          <a:xfrm>
            <a:off x="129492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97" name="PlaceHolder 3"/>
          <p:cNvSpPr>
            <a:spLocks noGrp="1"/>
          </p:cNvSpPr>
          <p:nvPr>
            <p:ph/>
          </p:nvPr>
        </p:nvSpPr>
        <p:spPr>
          <a:xfrm>
            <a:off x="492624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98" name="PlaceHolder 4"/>
          <p:cNvSpPr>
            <a:spLocks noGrp="1"/>
          </p:cNvSpPr>
          <p:nvPr>
            <p:ph/>
          </p:nvPr>
        </p:nvSpPr>
        <p:spPr>
          <a:xfrm>
            <a:off x="492624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25F742-D6BA-4BE4-B174-E9E0024B5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100" name="PlaceHolder 2"/>
          <p:cNvSpPr>
            <a:spLocks noGrp="1"/>
          </p:cNvSpPr>
          <p:nvPr>
            <p:ph/>
          </p:nvPr>
        </p:nvSpPr>
        <p:spPr>
          <a:xfrm>
            <a:off x="129492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01" name="PlaceHolder 3"/>
          <p:cNvSpPr>
            <a:spLocks noGrp="1"/>
          </p:cNvSpPr>
          <p:nvPr>
            <p:ph/>
          </p:nvPr>
        </p:nvSpPr>
        <p:spPr>
          <a:xfrm>
            <a:off x="492624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02" name="PlaceHolder 4"/>
          <p:cNvSpPr>
            <a:spLocks noGrp="1"/>
          </p:cNvSpPr>
          <p:nvPr>
            <p:ph/>
          </p:nvPr>
        </p:nvSpPr>
        <p:spPr>
          <a:xfrm>
            <a:off x="1294920" y="4477320"/>
            <a:ext cx="708660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EB54F8-9059-43D0-A6BF-D589A65BCE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104" name="PlaceHolder 2"/>
          <p:cNvSpPr>
            <a:spLocks noGrp="1"/>
          </p:cNvSpPr>
          <p:nvPr>
            <p:ph/>
          </p:nvPr>
        </p:nvSpPr>
        <p:spPr>
          <a:xfrm>
            <a:off x="1294920" y="2361960"/>
            <a:ext cx="708660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05" name="PlaceHolder 3"/>
          <p:cNvSpPr>
            <a:spLocks noGrp="1"/>
          </p:cNvSpPr>
          <p:nvPr>
            <p:ph/>
          </p:nvPr>
        </p:nvSpPr>
        <p:spPr>
          <a:xfrm>
            <a:off x="1294920" y="4477320"/>
            <a:ext cx="708660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AF2871-F3A8-4D54-8650-B8E4264EF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107" name="PlaceHolder 2"/>
          <p:cNvSpPr>
            <a:spLocks noGrp="1"/>
          </p:cNvSpPr>
          <p:nvPr>
            <p:ph/>
          </p:nvPr>
        </p:nvSpPr>
        <p:spPr>
          <a:xfrm>
            <a:off x="129492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08" name="PlaceHolder 3"/>
          <p:cNvSpPr>
            <a:spLocks noGrp="1"/>
          </p:cNvSpPr>
          <p:nvPr>
            <p:ph/>
          </p:nvPr>
        </p:nvSpPr>
        <p:spPr>
          <a:xfrm>
            <a:off x="492624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09" name="PlaceHolder 4"/>
          <p:cNvSpPr>
            <a:spLocks noGrp="1"/>
          </p:cNvSpPr>
          <p:nvPr>
            <p:ph/>
          </p:nvPr>
        </p:nvSpPr>
        <p:spPr>
          <a:xfrm>
            <a:off x="129492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10" name="PlaceHolder 5"/>
          <p:cNvSpPr>
            <a:spLocks noGrp="1"/>
          </p:cNvSpPr>
          <p:nvPr>
            <p:ph/>
          </p:nvPr>
        </p:nvSpPr>
        <p:spPr>
          <a:xfrm>
            <a:off x="492624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B09235D-4C52-46E9-AE85-C00FBE5808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112" name="PlaceHolder 2"/>
          <p:cNvSpPr>
            <a:spLocks noGrp="1"/>
          </p:cNvSpPr>
          <p:nvPr>
            <p:ph/>
          </p:nvPr>
        </p:nvSpPr>
        <p:spPr>
          <a:xfrm>
            <a:off x="1294920" y="236196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13" name="PlaceHolder 3"/>
          <p:cNvSpPr>
            <a:spLocks noGrp="1"/>
          </p:cNvSpPr>
          <p:nvPr>
            <p:ph/>
          </p:nvPr>
        </p:nvSpPr>
        <p:spPr>
          <a:xfrm>
            <a:off x="3691080" y="236196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14" name="PlaceHolder 4"/>
          <p:cNvSpPr>
            <a:spLocks noGrp="1"/>
          </p:cNvSpPr>
          <p:nvPr>
            <p:ph/>
          </p:nvPr>
        </p:nvSpPr>
        <p:spPr>
          <a:xfrm>
            <a:off x="6087240" y="236196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15" name="PlaceHolder 5"/>
          <p:cNvSpPr>
            <a:spLocks noGrp="1"/>
          </p:cNvSpPr>
          <p:nvPr>
            <p:ph/>
          </p:nvPr>
        </p:nvSpPr>
        <p:spPr>
          <a:xfrm>
            <a:off x="1294920" y="447732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16" name="PlaceHolder 6"/>
          <p:cNvSpPr>
            <a:spLocks noGrp="1"/>
          </p:cNvSpPr>
          <p:nvPr>
            <p:ph/>
          </p:nvPr>
        </p:nvSpPr>
        <p:spPr>
          <a:xfrm>
            <a:off x="3691080" y="447732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117" name="PlaceHolder 7"/>
          <p:cNvSpPr>
            <a:spLocks noGrp="1"/>
          </p:cNvSpPr>
          <p:nvPr>
            <p:ph/>
          </p:nvPr>
        </p:nvSpPr>
        <p:spPr>
          <a:xfrm>
            <a:off x="6087240" y="4477320"/>
            <a:ext cx="228168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B403D5-B1DF-4B38-80DE-8D2D5BFD82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25"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27" name="PlaceHolder 2"/>
          <p:cNvSpPr>
            <a:spLocks noGrp="1"/>
          </p:cNvSpPr>
          <p:nvPr>
            <p:ph/>
          </p:nvPr>
        </p:nvSpPr>
        <p:spPr>
          <a:xfrm>
            <a:off x="129492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28" name="PlaceHolder 3"/>
          <p:cNvSpPr>
            <a:spLocks noGrp="1"/>
          </p:cNvSpPr>
          <p:nvPr>
            <p:ph/>
          </p:nvPr>
        </p:nvSpPr>
        <p:spPr>
          <a:xfrm>
            <a:off x="492624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295280" y="1218960"/>
            <a:ext cx="7848720" cy="4945680"/>
          </a:xfrm>
          <a:prstGeom prst="rect">
            <a:avLst/>
          </a:prstGeom>
          <a:noFill/>
          <a:ln w="0">
            <a:noFill/>
          </a:ln>
        </p:spPr>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32" name="PlaceHolder 2"/>
          <p:cNvSpPr>
            <a:spLocks noGrp="1"/>
          </p:cNvSpPr>
          <p:nvPr>
            <p:ph/>
          </p:nvPr>
        </p:nvSpPr>
        <p:spPr>
          <a:xfrm>
            <a:off x="129492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33" name="PlaceHolder 3"/>
          <p:cNvSpPr>
            <a:spLocks noGrp="1"/>
          </p:cNvSpPr>
          <p:nvPr>
            <p:ph/>
          </p:nvPr>
        </p:nvSpPr>
        <p:spPr>
          <a:xfrm>
            <a:off x="492624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34" name="PlaceHolder 4"/>
          <p:cNvSpPr>
            <a:spLocks noGrp="1"/>
          </p:cNvSpPr>
          <p:nvPr>
            <p:ph/>
          </p:nvPr>
        </p:nvSpPr>
        <p:spPr>
          <a:xfrm>
            <a:off x="129492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36" name="PlaceHolder 2"/>
          <p:cNvSpPr>
            <a:spLocks noGrp="1"/>
          </p:cNvSpPr>
          <p:nvPr>
            <p:ph/>
          </p:nvPr>
        </p:nvSpPr>
        <p:spPr>
          <a:xfrm>
            <a:off x="1294920" y="2361960"/>
            <a:ext cx="3458160" cy="40496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37" name="PlaceHolder 3"/>
          <p:cNvSpPr>
            <a:spLocks noGrp="1"/>
          </p:cNvSpPr>
          <p:nvPr>
            <p:ph/>
          </p:nvPr>
        </p:nvSpPr>
        <p:spPr>
          <a:xfrm>
            <a:off x="492624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38" name="PlaceHolder 4"/>
          <p:cNvSpPr>
            <a:spLocks noGrp="1"/>
          </p:cNvSpPr>
          <p:nvPr>
            <p:ph/>
          </p:nvPr>
        </p:nvSpPr>
        <p:spPr>
          <a:xfrm>
            <a:off x="4926240" y="447732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mic Sans MS"/>
            </a:endParaRPr>
          </a:p>
        </p:txBody>
      </p:sp>
      <p:sp>
        <p:nvSpPr>
          <p:cNvPr id="40" name="PlaceHolder 2"/>
          <p:cNvSpPr>
            <a:spLocks noGrp="1"/>
          </p:cNvSpPr>
          <p:nvPr>
            <p:ph/>
          </p:nvPr>
        </p:nvSpPr>
        <p:spPr>
          <a:xfrm>
            <a:off x="129492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1" name="PlaceHolder 3"/>
          <p:cNvSpPr>
            <a:spLocks noGrp="1"/>
          </p:cNvSpPr>
          <p:nvPr>
            <p:ph/>
          </p:nvPr>
        </p:nvSpPr>
        <p:spPr>
          <a:xfrm>
            <a:off x="4926240" y="2361960"/>
            <a:ext cx="345816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42" name="PlaceHolder 4"/>
          <p:cNvSpPr>
            <a:spLocks noGrp="1"/>
          </p:cNvSpPr>
          <p:nvPr>
            <p:ph/>
          </p:nvPr>
        </p:nvSpPr>
        <p:spPr>
          <a:xfrm>
            <a:off x="1294920" y="4477320"/>
            <a:ext cx="7086600" cy="19314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361960"/>
            <a:ext cx="7086600" cy="4049640"/>
          </a:xfrm>
          <a:prstGeom prst="rect">
            <a:avLst/>
          </a:prstGeom>
          <a:noFill/>
          <a:ln w="0">
            <a:noFill/>
          </a:ln>
        </p:spPr>
        <p:txBody>
          <a:bodyPr lIns="90000" rIns="90000" tIns="46800" bIns="46800" anchor="t">
            <a:normAutofit fontScale="91000"/>
          </a:bodyPr>
          <a:p>
            <a:pPr marL="312120" indent="-31212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676080" indent="-259920">
              <a:spcBef>
                <a:spcPts val="8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040040" indent="-207720">
              <a:spcBef>
                <a:spcPts val="8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455840" indent="-207720">
              <a:spcBef>
                <a:spcPts val="8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1872000" indent="-207720">
              <a:spcBef>
                <a:spcPts val="850"/>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1872000" indent="-20772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1872000" indent="-20772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 name=""/>
          <p:cNvSpPr/>
          <p:nvPr/>
        </p:nvSpPr>
        <p:spPr>
          <a:xfrm>
            <a:off x="0" y="2286000"/>
            <a:ext cx="53352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2819520"/>
            <a:ext cx="53316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981080" y="533520"/>
            <a:ext cx="38124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62120" y="1066680"/>
            <a:ext cx="38088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143000" y="685800"/>
            <a:ext cx="3808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2362320" y="152280"/>
            <a:ext cx="38088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755640"/>
            <a:ext cx="5867280" cy="76320"/>
          </a:xfrm>
          <a:prstGeom prst="rect">
            <a:avLst/>
          </a:prstGeom>
          <a:noFill/>
          <a:ln w="5724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5715000" y="609480"/>
            <a:ext cx="304920" cy="30492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5562720" y="457200"/>
            <a:ext cx="304560" cy="3049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458200" y="3962520"/>
            <a:ext cx="38088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686800" y="3657600"/>
            <a:ext cx="380880" cy="3808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533520" y="2819160"/>
              <a:ext cx="53316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 name="PlaceHolder 2"/>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lick to edit the title text format</a:t>
            </a:r>
            <a:endParaRPr b="0" lang="en-US" sz="3800" spc="-1" strike="noStrike">
              <a:solidFill>
                <a:srgbClr val="000000"/>
              </a:solidFill>
              <a:latin typeface="Comic Sans MS"/>
            </a:endParaRPr>
          </a:p>
        </p:txBody>
      </p:sp>
      <p:sp>
        <p:nvSpPr>
          <p:cNvPr id="16" name="PlaceHolder 3"/>
          <p:cNvSpPr>
            <a:spLocks noGrp="1"/>
          </p:cNvSpPr>
          <p:nvPr>
            <p:ph type="ftr" idx="1"/>
          </p:nvPr>
        </p:nvSpPr>
        <p:spPr>
          <a:xfrm>
            <a:off x="1290600" y="6556320"/>
            <a:ext cx="776592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footer&gt;</a:t>
            </a:r>
            <a:endParaRPr b="0" lang="en-US" sz="1200" spc="-1" strike="noStrike">
              <a:solidFill>
                <a:srgbClr val="000000"/>
              </a:solidFill>
              <a:latin typeface="Times New Roman"/>
            </a:endParaRPr>
          </a:p>
        </p:txBody>
      </p:sp>
      <p:grpSp>
        <p:nvGrpSpPr>
          <p:cNvPr id="17" name=""/>
          <p:cNvGrpSpPr/>
          <p:nvPr/>
        </p:nvGrpSpPr>
        <p:grpSpPr>
          <a:xfrm>
            <a:off x="762120" y="152280"/>
            <a:ext cx="1981080" cy="1295640"/>
            <a:chOff x="762120" y="152280"/>
            <a:chExt cx="1981080" cy="1295640"/>
          </a:xfrm>
        </p:grpSpPr>
        <p:sp>
          <p:nvSpPr>
            <p:cNvPr id="18" name=""/>
            <p:cNvSpPr/>
            <p:nvPr/>
          </p:nvSpPr>
          <p:spPr>
            <a:xfrm>
              <a:off x="1981440" y="533520"/>
              <a:ext cx="38088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762120" y="1066680"/>
              <a:ext cx="380880" cy="38124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1143000" y="685800"/>
              <a:ext cx="381240" cy="38088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2362320" y="152280"/>
              <a:ext cx="380880" cy="38124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95480" y="4303800"/>
            <a:ext cx="327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lick to edit the title text format</a:t>
            </a:r>
            <a:endParaRPr b="0" lang="en-US" sz="3800" spc="-1" strike="noStrike">
              <a:solidFill>
                <a:srgbClr val="000000"/>
              </a:solidFill>
              <a:latin typeface="Comic Sans MS"/>
            </a:endParaRPr>
          </a:p>
        </p:txBody>
      </p:sp>
      <p:sp>
        <p:nvSpPr>
          <p:cNvPr id="60" name=""/>
          <p:cNvSpPr/>
          <p:nvPr/>
        </p:nvSpPr>
        <p:spPr>
          <a:xfrm>
            <a:off x="0" y="1066680"/>
            <a:ext cx="86868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533520" y="0"/>
            <a:ext cx="3276360" cy="2133720"/>
            <a:chOff x="533520" y="0"/>
            <a:chExt cx="3276360" cy="2133720"/>
          </a:xfrm>
        </p:grpSpPr>
        <p:sp>
          <p:nvSpPr>
            <p:cNvPr id="62" name=""/>
            <p:cNvSpPr/>
            <p:nvPr/>
          </p:nvSpPr>
          <p:spPr>
            <a:xfrm>
              <a:off x="1600200" y="1066680"/>
              <a:ext cx="53352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133720" y="1600200"/>
              <a:ext cx="5331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743200" y="533520"/>
              <a:ext cx="53352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276720" y="1066680"/>
              <a:ext cx="5331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066680" y="533520"/>
              <a:ext cx="53352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33520" y="0"/>
              <a:ext cx="5331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533520" y="0"/>
            <a:ext cx="3276000" cy="2133720"/>
            <a:chOff x="533520" y="0"/>
            <a:chExt cx="3276000" cy="2133720"/>
          </a:xfrm>
        </p:grpSpPr>
        <p:sp>
          <p:nvSpPr>
            <p:cNvPr id="69" name=""/>
            <p:cNvSpPr/>
            <p:nvPr/>
          </p:nvSpPr>
          <p:spPr>
            <a:xfrm>
              <a:off x="1599840" y="1067040"/>
              <a:ext cx="533160" cy="53316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133360" y="1600200"/>
              <a:ext cx="53316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742840" y="533520"/>
              <a:ext cx="53316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76360" y="1067040"/>
              <a:ext cx="533160" cy="53316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66680" y="533520"/>
              <a:ext cx="532800" cy="53352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33520" y="0"/>
              <a:ext cx="53316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
          <p:cNvSpPr/>
          <p:nvPr/>
        </p:nvSpPr>
        <p:spPr>
          <a:xfrm>
            <a:off x="4114800" y="4191120"/>
            <a:ext cx="210960" cy="21096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419720" y="4191120"/>
            <a:ext cx="210960" cy="2109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724280" y="4191120"/>
            <a:ext cx="211320" cy="210960"/>
          </a:xfrm>
          <a:prstGeom prst="rect">
            <a:avLst/>
          </a:prstGeom>
          <a:solidFill>
            <a:srgbClr val="cc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2"/>
          <p:cNvSpPr>
            <a:spLocks noGrp="1"/>
          </p:cNvSpPr>
          <p:nvPr>
            <p:ph type="dt" idx="2"/>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date/time&gt;</a:t>
            </a:r>
            <a:endParaRPr b="0" lang="en-US" sz="1200" spc="-1" strike="noStrike">
              <a:solidFill>
                <a:srgbClr val="000000"/>
              </a:solidFill>
              <a:latin typeface="Times New Roman"/>
            </a:endParaRPr>
          </a:p>
        </p:txBody>
      </p:sp>
      <p:sp>
        <p:nvSpPr>
          <p:cNvPr id="79" name="PlaceHolder 3"/>
          <p:cNvSpPr>
            <a:spLocks noGrp="1"/>
          </p:cNvSpPr>
          <p:nvPr>
            <p:ph type="ftr" idx="3"/>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footer&gt;</a:t>
            </a:r>
            <a:endParaRPr b="0" lang="en-US" sz="1200" spc="-1" strike="noStrike">
              <a:solidFill>
                <a:srgbClr val="000000"/>
              </a:solidFill>
              <a:latin typeface="Times New Roman"/>
            </a:endParaRPr>
          </a:p>
        </p:txBody>
      </p:sp>
      <p:sp>
        <p:nvSpPr>
          <p:cNvPr id="80" name="PlaceHolder 4"/>
          <p:cNvSpPr>
            <a:spLocks noGrp="1"/>
          </p:cNvSpPr>
          <p:nvPr>
            <p:ph type="sldNum" idx="4"/>
          </p:nvPr>
        </p:nvSpPr>
        <p:spPr>
          <a:xfrm>
            <a:off x="5791320" y="6171840"/>
            <a:ext cx="761760" cy="609480"/>
          </a:xfrm>
          <a:prstGeom prst="rect">
            <a:avLst/>
          </a:prstGeom>
          <a:solidFill>
            <a:srgbClr val="cccc00"/>
          </a:solidFill>
          <a:ln w="5724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154F-8D4D-43EC-BDC6-EB67570ED1FA}" type="slidenum">
              <a:rPr b="1" lang="en-US"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ahoma"/>
              </a:rPr>
              <a:t>Click to edit the outline text format</a:t>
            </a:r>
            <a:endParaRPr b="0" lang="en-US" sz="3000" spc="-1" strike="noStrike">
              <a:solidFill>
                <a:srgbClr val="009900"/>
              </a:solidFill>
              <a:latin typeface="Tahom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914400" algn="ctr">
              <a:spcBef>
                <a:spcPts val="751"/>
              </a:spcBef>
              <a:buClr>
                <a:srgbClr val="cc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371600" algn="ctr">
              <a:spcBef>
                <a:spcPts val="451"/>
              </a:spcBef>
              <a:buClr>
                <a:srgbClr val="00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cccc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health.nih.gov/result.asp/488" TargetMode="External"/><Relationship Id="rId2" Type="http://schemas.openxmlformats.org/officeDocument/2006/relationships/hyperlink" Target="http://www.nof.or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Osteoporosis:</a:t>
            </a:r>
            <a:br>
              <a:rPr sz="3800"/>
            </a:br>
            <a:r>
              <a:rPr b="0" lang="en-US" sz="3800" spc="-1" strike="noStrike">
                <a:solidFill>
                  <a:srgbClr val="000000"/>
                </a:solidFill>
                <a:latin typeface="Comic Sans MS"/>
              </a:rPr>
              <a:t>It’s More Than Calcium</a:t>
            </a:r>
            <a:endParaRPr b="0" lang="en-US" sz="3800" spc="-1" strike="noStrike">
              <a:solidFill>
                <a:srgbClr val="000000"/>
              </a:solidFill>
              <a:latin typeface="Comic Sans MS"/>
            </a:endParaRPr>
          </a:p>
        </p:txBody>
      </p:sp>
      <p:sp>
        <p:nvSpPr>
          <p:cNvPr id="126"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ahoma"/>
              </a:rPr>
              <a:t>Jeanne Freeman, PhD, CHES</a:t>
            </a:r>
            <a:endParaRPr b="0" lang="en-US" sz="3000" spc="-1" strike="noStrike">
              <a:solidFill>
                <a:srgbClr val="0099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SU Chico</a:t>
            </a:r>
            <a:endParaRPr b="0" lang="en-US" sz="2000" spc="-1" strike="noStrike">
              <a:solidFill>
                <a:srgbClr val="009900"/>
              </a:solidFill>
              <a:latin typeface="Tahom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ahoma"/>
              </a:rPr>
              <a:t>Lori Turner, PhD, RD</a:t>
            </a:r>
            <a:endParaRPr b="0" lang="en-US" sz="3000" spc="-1" strike="noStrike">
              <a:solidFill>
                <a:srgbClr val="0099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University of Arkansas</a:t>
            </a:r>
            <a:endParaRPr b="0" lang="en-US" sz="2000" spc="-1" strike="noStrike">
              <a:solidFill>
                <a:srgbClr val="009900"/>
              </a:solidFill>
              <a:latin typeface="Tahom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is the Key</a:t>
            </a:r>
            <a:endParaRPr b="0" lang="en-US" sz="3800" spc="-1" strike="noStrike">
              <a:solidFill>
                <a:srgbClr val="000000"/>
              </a:solidFill>
              <a:latin typeface="Comic Sans MS"/>
            </a:endParaRPr>
          </a:p>
        </p:txBody>
      </p:sp>
      <p:sp>
        <p:nvSpPr>
          <p:cNvPr id="146"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Building strong bones during childhood</a:t>
            </a:r>
            <a:endParaRPr b="0" lang="en-US" sz="34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eak bone mass (PBM)</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act of menopause</a:t>
            </a:r>
            <a:endParaRPr b="0" lang="en-US" sz="32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 of attainment</a:t>
            </a:r>
            <a:endParaRPr b="0" lang="en-US" sz="32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revention should occur throughout the lifespan!</a:t>
            </a:r>
            <a:endParaRPr b="0" lang="en-US" sz="3400" spc="-1" strike="noStrike">
              <a:solidFill>
                <a:srgbClr val="000000"/>
              </a:solidFill>
              <a:latin typeface="Tahoma"/>
            </a:endParaRPr>
          </a:p>
        </p:txBody>
      </p:sp>
      <p:pic>
        <p:nvPicPr>
          <p:cNvPr id="147" name="" descr=""/>
          <p:cNvPicPr/>
          <p:nvPr/>
        </p:nvPicPr>
        <p:blipFill>
          <a:blip r:embed="rId1"/>
          <a:stretch/>
        </p:blipFill>
        <p:spPr>
          <a:xfrm>
            <a:off x="6781680" y="838080"/>
            <a:ext cx="2108160" cy="1486080"/>
          </a:xfrm>
          <a:prstGeom prst="rect">
            <a:avLst/>
          </a:prstGeom>
          <a:ln w="0">
            <a:noFill/>
          </a:ln>
        </p:spPr>
      </p:pic>
      <p:sp>
        <p:nvSpPr>
          <p:cNvPr id="4" name="PlaceHolder 3"/>
          <p:cNvSpPr>
            <a:spLocks noGrp="1"/>
          </p:cNvSpPr>
          <p:nvPr>
            <p:ph type="ftr" idx="1"/>
          </p:nvPr>
        </p:nvSpPr>
        <p:spPr/>
        <p:txBody>
          <a:bodyPr/>
          <a:p>
            <a:r>
              <a:t>Cromer &amp; Harel, 2000; Katz et al., 1998; Mark &amp; Link, 1999; Masi &amp; Bilezikian, 1997; NIH, 2000; PDR, 1999</a:t>
            </a: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Positive Effects</a:t>
            </a:r>
            <a:endParaRPr b="0" lang="en-US" sz="3400" spc="-1" strike="noStrike">
              <a:solidFill>
                <a:srgbClr val="000000"/>
              </a:solidFill>
              <a:latin typeface="Comic Sans MS"/>
            </a:endParaRPr>
          </a:p>
        </p:txBody>
      </p:sp>
      <p:sp>
        <p:nvSpPr>
          <p:cNvPr id="149"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alcium</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ciency</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ize intake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lthy People 2010</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equate intakes</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hildren through older adults</a:t>
            </a:r>
            <a:endParaRPr b="0" lang="en-US" sz="3000" spc="-1" strike="noStrike">
              <a:solidFill>
                <a:srgbClr val="000000"/>
              </a:solidFill>
              <a:latin typeface="Tahoma"/>
            </a:endParaRPr>
          </a:p>
        </p:txBody>
      </p:sp>
      <p:sp>
        <p:nvSpPr>
          <p:cNvPr id="4" name="PlaceHolder 3"/>
          <p:cNvSpPr>
            <a:spLocks noGrp="1"/>
          </p:cNvSpPr>
          <p:nvPr>
            <p:ph type="ftr" idx="1"/>
          </p:nvPr>
        </p:nvSpPr>
        <p:spPr/>
        <p:txBody>
          <a:bodyPr/>
          <a:p>
            <a:r>
              <a:t>Gennari, 2001; Gerrior, et al., 1998; IOM, 1997; Krall &amp; Dawson-Hughes, 1999; Weaver &amp; Heaney, 1999;</a:t>
            </a: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Positive Effects</a:t>
            </a:r>
            <a:endParaRPr b="0" lang="en-US" sz="3400" spc="-1" strike="noStrike">
              <a:solidFill>
                <a:srgbClr val="000000"/>
              </a:solidFill>
              <a:latin typeface="Comic Sans MS"/>
            </a:endParaRPr>
          </a:p>
        </p:txBody>
      </p:sp>
      <p:sp>
        <p:nvSpPr>
          <p:cNvPr id="151"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alcium</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ces</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airy products</a:t>
            </a:r>
            <a:endParaRPr b="0" lang="en-US" sz="30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tified foods</a:t>
            </a:r>
            <a:endParaRPr b="0" lang="en-US" sz="30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lcium supplements</a:t>
            </a:r>
            <a:endParaRPr b="0" lang="en-US" sz="30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ups at risk for deficiency</a:t>
            </a:r>
            <a:endParaRPr b="0" lang="en-US" sz="3200" spc="-1" strike="noStrike">
              <a:solidFill>
                <a:srgbClr val="000000"/>
              </a:solidFill>
              <a:latin typeface="Tahoma"/>
            </a:endParaRPr>
          </a:p>
        </p:txBody>
      </p:sp>
      <p:pic>
        <p:nvPicPr>
          <p:cNvPr id="152" name="" descr=""/>
          <p:cNvPicPr/>
          <p:nvPr/>
        </p:nvPicPr>
        <p:blipFill>
          <a:blip r:embed="rId1"/>
          <a:stretch/>
        </p:blipFill>
        <p:spPr>
          <a:xfrm>
            <a:off x="6384960" y="1981080"/>
            <a:ext cx="2759040" cy="2835360"/>
          </a:xfrm>
          <a:prstGeom prst="rect">
            <a:avLst/>
          </a:prstGeom>
          <a:ln w="0">
            <a:noFill/>
          </a:ln>
        </p:spPr>
      </p:pic>
      <p:sp>
        <p:nvSpPr>
          <p:cNvPr id="4" name="PlaceHolder 3"/>
          <p:cNvSpPr>
            <a:spLocks noGrp="1"/>
          </p:cNvSpPr>
          <p:nvPr>
            <p:ph type="ftr" idx="1"/>
          </p:nvPr>
        </p:nvSpPr>
        <p:spPr/>
        <p:txBody>
          <a:bodyPr/>
          <a:p>
            <a:r>
              <a:t>Ervin et al., 1999; Fleming &amp; Heimbach, 1994; Recker et al., 1992; Sutton, 2000; Wardlaw &amp; Weese, 1995</a:t>
            </a: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Positive Effects</a:t>
            </a:r>
            <a:endParaRPr b="0" lang="en-US" sz="3400" spc="-1" strike="noStrike">
              <a:solidFill>
                <a:srgbClr val="000000"/>
              </a:solidFill>
              <a:latin typeface="Comic Sans MS"/>
            </a:endParaRPr>
          </a:p>
        </p:txBody>
      </p:sp>
      <p:sp>
        <p:nvSpPr>
          <p:cNvPr id="154"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Vitamin D</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t-soluble vitamin</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to opening “bone” door</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ation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ces</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6307200" y="4433760"/>
            <a:ext cx="2212920" cy="2276640"/>
          </a:xfrm>
          <a:prstGeom prst="rect">
            <a:avLst/>
          </a:prstGeom>
          <a:ln w="0">
            <a:noFill/>
          </a:ln>
        </p:spPr>
      </p:pic>
      <p:sp>
        <p:nvSpPr>
          <p:cNvPr id="4" name="PlaceHolder 3"/>
          <p:cNvSpPr>
            <a:spLocks noGrp="1"/>
          </p:cNvSpPr>
          <p:nvPr>
            <p:ph type="ftr" idx="1"/>
          </p:nvPr>
        </p:nvSpPr>
        <p:spPr/>
        <p:txBody>
          <a:bodyPr/>
          <a:p>
            <a:r>
              <a:t>Combs, 1998; Dowd, 2001; Vieth, 1999; Willhite, 1998</a:t>
            </a: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Positive Effects</a:t>
            </a:r>
            <a:endParaRPr b="0" lang="en-US" sz="3400" spc="-1" strike="noStrike">
              <a:solidFill>
                <a:srgbClr val="000000"/>
              </a:solidFill>
              <a:latin typeface="Comic Sans MS"/>
            </a:endParaRPr>
          </a:p>
        </p:txBody>
      </p:sp>
      <p:sp>
        <p:nvSpPr>
          <p:cNvPr id="157"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Fluoride</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steoblast activity</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used in combination</a:t>
            </a:r>
            <a:endParaRPr b="0" lang="en-US" sz="32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Vitamin K</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ne tissue protein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ces </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Combs, 1998; Dowd, 2001; Pak et al., 1997; Sowers et al., 1986; Swaminathan, 1999;  Willhite, 1998</a:t>
            </a: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Positive Effects</a:t>
            </a:r>
            <a:endParaRPr b="0" lang="en-US" sz="3400" spc="-1" strike="noStrike">
              <a:solidFill>
                <a:srgbClr val="000000"/>
              </a:solidFill>
              <a:latin typeface="Comic Sans MS"/>
            </a:endParaRPr>
          </a:p>
        </p:txBody>
      </p:sp>
      <p:sp>
        <p:nvSpPr>
          <p:cNvPr id="159"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hosphoru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ystal structure of bone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ciency</a:t>
            </a:r>
            <a:endParaRPr b="0" lang="en-US" sz="32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Magnesium</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ce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in bone formation</a:t>
            </a:r>
            <a:endParaRPr b="0" lang="en-US" sz="3200" spc="-1" strike="noStrike">
              <a:solidFill>
                <a:srgbClr val="000000"/>
              </a:solidFill>
              <a:latin typeface="Tahoma"/>
            </a:endParaRPr>
          </a:p>
        </p:txBody>
      </p:sp>
      <p:pic>
        <p:nvPicPr>
          <p:cNvPr id="160" name="" descr=""/>
          <p:cNvPicPr/>
          <p:nvPr/>
        </p:nvPicPr>
        <p:blipFill>
          <a:blip r:embed="rId1"/>
          <a:stretch/>
        </p:blipFill>
        <p:spPr>
          <a:xfrm>
            <a:off x="5410080" y="3200400"/>
            <a:ext cx="3206880" cy="2208240"/>
          </a:xfrm>
          <a:prstGeom prst="rect">
            <a:avLst/>
          </a:prstGeom>
          <a:ln w="0">
            <a:noFill/>
          </a:ln>
        </p:spPr>
      </p:pic>
      <p:sp>
        <p:nvSpPr>
          <p:cNvPr id="4" name="PlaceHolder 3"/>
          <p:cNvSpPr>
            <a:spLocks noGrp="1"/>
          </p:cNvSpPr>
          <p:nvPr>
            <p:ph type="ftr" idx="1"/>
          </p:nvPr>
        </p:nvSpPr>
        <p:spPr/>
        <p:txBody>
          <a:bodyPr/>
          <a:p>
            <a:r>
              <a:t>Combs, 1998; Dowd, 2001; Gennari, 2001; Heaney, 2000; Robbins &amp; New, 1997</a:t>
            </a: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Negative Effects</a:t>
            </a:r>
            <a:endParaRPr b="0" lang="en-US" sz="3400" spc="-1" strike="noStrike">
              <a:solidFill>
                <a:srgbClr val="000000"/>
              </a:solidFill>
              <a:latin typeface="Comic Sans MS"/>
            </a:endParaRPr>
          </a:p>
        </p:txBody>
      </p:sp>
      <p:sp>
        <p:nvSpPr>
          <p:cNvPr id="162"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rotein</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cium excretion</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ed protein intake</a:t>
            </a:r>
            <a:endParaRPr b="0" lang="en-US" sz="32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odium</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cium excretion</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ed sodium intake</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Devine et al., 1995; Lau &amp; Woo, 1998; Krall &amp; Dawson-Hughes, 1999; NAP, 2000; Powers et al., 1999</a:t>
            </a: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Negative Effects</a:t>
            </a:r>
            <a:endParaRPr b="0" lang="en-US" sz="3400" spc="-1" strike="noStrike">
              <a:solidFill>
                <a:srgbClr val="000000"/>
              </a:solidFill>
              <a:latin typeface="Comic Sans MS"/>
            </a:endParaRPr>
          </a:p>
        </p:txBody>
      </p:sp>
      <p:sp>
        <p:nvSpPr>
          <p:cNvPr id="164"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affeine</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umption in U.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mingham study</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rinary calcium los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verage replacement</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mpact on young people</a:t>
            </a:r>
            <a:endParaRPr b="0" lang="en-US" sz="3000" spc="-1" strike="noStrike">
              <a:solidFill>
                <a:srgbClr val="000000"/>
              </a:solidFill>
              <a:latin typeface="Tahoma"/>
            </a:endParaRPr>
          </a:p>
        </p:txBody>
      </p:sp>
      <p:pic>
        <p:nvPicPr>
          <p:cNvPr id="165" name="" descr=""/>
          <p:cNvPicPr/>
          <p:nvPr/>
        </p:nvPicPr>
        <p:blipFill>
          <a:blip r:embed="rId1"/>
          <a:stretch/>
        </p:blipFill>
        <p:spPr>
          <a:xfrm>
            <a:off x="6378480" y="2438280"/>
            <a:ext cx="2765520" cy="2843280"/>
          </a:xfrm>
          <a:prstGeom prst="rect">
            <a:avLst/>
          </a:prstGeom>
          <a:ln w="0">
            <a:noFill/>
          </a:ln>
        </p:spPr>
      </p:pic>
      <p:sp>
        <p:nvSpPr>
          <p:cNvPr id="4" name="PlaceHolder 3"/>
          <p:cNvSpPr>
            <a:spLocks noGrp="1"/>
          </p:cNvSpPr>
          <p:nvPr>
            <p:ph type="ftr" idx="1"/>
          </p:nvPr>
        </p:nvSpPr>
        <p:spPr/>
        <p:txBody>
          <a:bodyPr/>
          <a:p>
            <a:r>
              <a:t>Barone &amp; Grice, 1994; Conlisk &amp; Galuska, 2000; Kiel et al., 1990; Lloyd et al., 1997; Packard &amp; Recker, 1996</a:t>
            </a: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et and Osteoporosis – Questionable Effects</a:t>
            </a:r>
            <a:endParaRPr b="0" lang="en-US" sz="3400" spc="-1" strike="noStrike">
              <a:solidFill>
                <a:srgbClr val="000000"/>
              </a:solidFill>
              <a:latin typeface="Comic Sans MS"/>
            </a:endParaRPr>
          </a:p>
        </p:txBody>
      </p:sp>
      <p:sp>
        <p:nvSpPr>
          <p:cNvPr id="167"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oy and isoflavone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mical structure like estradiol</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reduce bone turnover</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imal studies have not been consistent with human model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still unanswered regarding soy impact</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Alekel et al., 2000; Anderson, 1999; Heaney et al., 2000; Messina, 1999; Messina et al., 2002; Ross et al., 1991</a:t>
            </a: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ifestyle Factors and Osteoporosis – Physical Activity</a:t>
            </a:r>
            <a:endParaRPr b="0" lang="en-US" sz="3400" spc="-1" strike="noStrike">
              <a:solidFill>
                <a:srgbClr val="000000"/>
              </a:solidFill>
              <a:latin typeface="Comic Sans MS"/>
            </a:endParaRPr>
          </a:p>
        </p:txBody>
      </p:sp>
      <p:sp>
        <p:nvSpPr>
          <p:cNvPr id="169"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fontScale="97000"/>
          </a:bodyPr>
          <a:p>
            <a:pPr marL="332640" indent="-33264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wo types of exercise</a:t>
            </a:r>
            <a:endParaRPr b="0" lang="en-US" sz="3400" spc="-1" strike="noStrike">
              <a:solidFill>
                <a:srgbClr val="000000"/>
              </a:solidFill>
              <a:latin typeface="Tahoma"/>
            </a:endParaRPr>
          </a:p>
          <a:p>
            <a:pPr lvl="1" marL="720720" indent="-277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ight-bearing exercise</a:t>
            </a:r>
            <a:endParaRPr b="0" lang="en-US" sz="3200" spc="-1" strike="noStrike">
              <a:solidFill>
                <a:srgbClr val="000000"/>
              </a:solidFill>
              <a:latin typeface="Tahoma"/>
            </a:endParaRPr>
          </a:p>
          <a:p>
            <a:pPr lvl="1" marL="720720" indent="-277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istance exercise</a:t>
            </a:r>
            <a:endParaRPr b="0" lang="en-US" sz="3200" spc="-1" strike="noStrike">
              <a:solidFill>
                <a:srgbClr val="000000"/>
              </a:solidFill>
              <a:latin typeface="Tahoma"/>
            </a:endParaRPr>
          </a:p>
          <a:p>
            <a:pPr lvl="1" marL="720720" indent="-277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repetitions</a:t>
            </a:r>
            <a:endParaRPr b="0" lang="en-US" sz="3200" spc="-1" strike="noStrike">
              <a:solidFill>
                <a:srgbClr val="000000"/>
              </a:solidFill>
              <a:latin typeface="Tahoma"/>
            </a:endParaRPr>
          </a:p>
          <a:p>
            <a:pPr marL="332640" indent="-33264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Vague exercise recommendations</a:t>
            </a:r>
            <a:endParaRPr b="0" lang="en-US" sz="3400" spc="-1" strike="noStrike">
              <a:solidFill>
                <a:srgbClr val="000000"/>
              </a:solidFill>
              <a:latin typeface="Tahoma"/>
            </a:endParaRPr>
          </a:p>
          <a:p>
            <a:pPr marL="332640" indent="-33264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Benefits of exercise</a:t>
            </a:r>
            <a:endParaRPr b="0" lang="en-US" sz="3400" spc="-1" strike="noStrike">
              <a:solidFill>
                <a:srgbClr val="000000"/>
              </a:solidFill>
              <a:latin typeface="Tahoma"/>
            </a:endParaRPr>
          </a:p>
        </p:txBody>
      </p:sp>
      <p:pic>
        <p:nvPicPr>
          <p:cNvPr id="170" name="" descr=""/>
          <p:cNvPicPr/>
          <p:nvPr/>
        </p:nvPicPr>
        <p:blipFill>
          <a:blip r:embed="rId1"/>
          <a:stretch/>
        </p:blipFill>
        <p:spPr>
          <a:xfrm>
            <a:off x="6705720" y="1752480"/>
            <a:ext cx="1806480" cy="2362320"/>
          </a:xfrm>
          <a:prstGeom prst="rect">
            <a:avLst/>
          </a:prstGeom>
          <a:ln w="0">
            <a:noFill/>
          </a:ln>
        </p:spPr>
      </p:pic>
      <p:sp>
        <p:nvSpPr>
          <p:cNvPr id="4" name="PlaceHolder 3"/>
          <p:cNvSpPr>
            <a:spLocks noGrp="1"/>
          </p:cNvSpPr>
          <p:nvPr>
            <p:ph type="ftr" idx="1"/>
          </p:nvPr>
        </p:nvSpPr>
        <p:spPr/>
        <p:txBody>
          <a:bodyPr/>
          <a:p>
            <a:r>
              <a:t>ACSM, 1995; NOF, 2000; Taaffe et al., 1997</a:t>
            </a: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Target Audience</a:t>
            </a:r>
            <a:endParaRPr b="0" lang="en-US" sz="3800" spc="-1" strike="noStrike">
              <a:solidFill>
                <a:srgbClr val="000000"/>
              </a:solidFill>
              <a:latin typeface="Comic Sans MS"/>
            </a:endParaRPr>
          </a:p>
        </p:txBody>
      </p:sp>
      <p:sp>
        <p:nvSpPr>
          <p:cNvPr id="128"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arget: Adult men and women (ages 18-65)</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ifestyle Factors and Osteoporosis – Physical Activity</a:t>
            </a:r>
            <a:endParaRPr b="0" lang="en-US" sz="3400" spc="-1" strike="noStrike">
              <a:solidFill>
                <a:srgbClr val="000000"/>
              </a:solidFill>
              <a:latin typeface="Comic Sans MS"/>
            </a:endParaRPr>
          </a:p>
        </p:txBody>
      </p:sp>
      <p:sp>
        <p:nvSpPr>
          <p:cNvPr id="172"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Research among older population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cture risk</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diorespiratory fitnes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s of activitie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Mitchell et al., 1999; Turner et al., 1998</a:t>
            </a: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ifestyle Factors and Osteoporosis – Physical Activity</a:t>
            </a:r>
            <a:endParaRPr b="0" lang="en-US" sz="3400" spc="-1" strike="noStrike">
              <a:solidFill>
                <a:srgbClr val="000000"/>
              </a:solidFill>
              <a:latin typeface="Comic Sans MS"/>
            </a:endParaRPr>
          </a:p>
        </p:txBody>
      </p:sp>
      <p:sp>
        <p:nvSpPr>
          <p:cNvPr id="174"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Research among younger population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hletes vs. sedentary group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act on bone density</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ution for athletes</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menorrhea  </a:t>
            </a:r>
            <a:endParaRPr b="0" lang="en-US" sz="3000" spc="-1" strike="noStrike">
              <a:solidFill>
                <a:srgbClr val="000000"/>
              </a:solidFill>
              <a:latin typeface="Tahoma"/>
            </a:endParaRPr>
          </a:p>
        </p:txBody>
      </p:sp>
      <p:sp>
        <p:nvSpPr>
          <p:cNvPr id="4" name="PlaceHolder 3"/>
          <p:cNvSpPr>
            <a:spLocks noGrp="1"/>
          </p:cNvSpPr>
          <p:nvPr>
            <p:ph type="ftr" idx="1"/>
          </p:nvPr>
        </p:nvSpPr>
        <p:spPr/>
        <p:txBody>
          <a:bodyPr/>
          <a:p>
            <a:r>
              <a:t>ACSM, 1995; Kanders et al., 1988; Sabatini, 2001; Snow-Harter et al., 1992; Turner et al., 2000</a:t>
            </a: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ifestyle Factors and Osteoporosis – Alcohol Intake</a:t>
            </a:r>
            <a:endParaRPr b="0" lang="en-US" sz="3400" spc="-1" strike="noStrike">
              <a:solidFill>
                <a:srgbClr val="000000"/>
              </a:solidFill>
              <a:latin typeface="Comic Sans MS"/>
            </a:endParaRPr>
          </a:p>
        </p:txBody>
      </p:sp>
      <p:sp>
        <p:nvSpPr>
          <p:cNvPr id="176"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uppression of bone formation</a:t>
            </a:r>
            <a:endParaRPr b="0" lang="en-US" sz="34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ncreased fracture risk</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w estrogen</a:t>
            </a:r>
            <a:endParaRPr b="0" lang="en-US" sz="32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or nutrition</a:t>
            </a:r>
            <a:endParaRPr b="0" lang="en-US" sz="3200" spc="-1" strike="noStrike">
              <a:solidFill>
                <a:srgbClr val="000000"/>
              </a:solidFill>
              <a:latin typeface="Tahoma"/>
            </a:endParaRPr>
          </a:p>
          <a:p>
            <a:pPr lvl="2" marL="1143000" indent="-228600">
              <a:lnSpc>
                <a:spcPct val="90000"/>
              </a:lnSpc>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lcium</a:t>
            </a:r>
            <a:endParaRPr b="0" lang="en-US" sz="3000" spc="-1" strike="noStrike">
              <a:solidFill>
                <a:srgbClr val="000000"/>
              </a:solidFill>
              <a:latin typeface="Tahoma"/>
            </a:endParaRPr>
          </a:p>
          <a:p>
            <a:pPr lvl="2" marL="1143000" indent="-228600">
              <a:lnSpc>
                <a:spcPct val="90000"/>
              </a:lnSpc>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Vitamin D</a:t>
            </a:r>
            <a:endParaRPr b="0" lang="en-US" sz="30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 difficulties</a:t>
            </a:r>
            <a:endParaRPr b="0" lang="en-US" sz="3200" spc="-1" strike="noStrike">
              <a:solidFill>
                <a:srgbClr val="000000"/>
              </a:solidFill>
              <a:latin typeface="Tahoma"/>
            </a:endParaRPr>
          </a:p>
        </p:txBody>
      </p:sp>
      <p:pic>
        <p:nvPicPr>
          <p:cNvPr id="177" name="" descr=""/>
          <p:cNvPicPr/>
          <p:nvPr/>
        </p:nvPicPr>
        <p:blipFill>
          <a:blip r:embed="rId1"/>
          <a:stretch/>
        </p:blipFill>
        <p:spPr>
          <a:xfrm>
            <a:off x="5562720" y="3602160"/>
            <a:ext cx="3122640" cy="2692440"/>
          </a:xfrm>
          <a:prstGeom prst="rect">
            <a:avLst/>
          </a:prstGeom>
          <a:ln w="0">
            <a:noFill/>
          </a:ln>
        </p:spPr>
      </p:pic>
      <p:sp>
        <p:nvSpPr>
          <p:cNvPr id="4" name="PlaceHolder 3"/>
          <p:cNvSpPr>
            <a:spLocks noGrp="1"/>
          </p:cNvSpPr>
          <p:nvPr>
            <p:ph type="ftr" idx="1"/>
          </p:nvPr>
        </p:nvSpPr>
        <p:spPr/>
        <p:txBody>
          <a:bodyPr/>
          <a:p>
            <a:r>
              <a:t>Arden, 1997; Laitinen et al., 1993; Slemenda et al., 1992; Thomas, 1997 Wardlaw &amp; Weese, 1995</a:t>
            </a: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ifestyle Factors and Osteoporosis – Cigarette Smoking</a:t>
            </a:r>
            <a:endParaRPr b="0" lang="en-US" sz="3400" spc="-1" strike="noStrike">
              <a:solidFill>
                <a:srgbClr val="000000"/>
              </a:solidFill>
              <a:latin typeface="Comic Sans MS"/>
            </a:endParaRPr>
          </a:p>
        </p:txBody>
      </p:sp>
      <p:sp>
        <p:nvSpPr>
          <p:cNvPr id="179"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fontScale="96000"/>
          </a:bodyPr>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ecreases serum estrogen levels</a:t>
            </a:r>
            <a:endParaRPr b="0" lang="en-US" sz="3400" spc="-1" strike="noStrike">
              <a:solidFill>
                <a:srgbClr val="000000"/>
              </a:solidFill>
              <a:latin typeface="Tahoma"/>
            </a:endParaRPr>
          </a:p>
          <a:p>
            <a:pPr lvl="1" marL="713160" indent="-27432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d bone formation</a:t>
            </a:r>
            <a:endParaRPr b="0" lang="en-US" sz="3200" spc="-1" strike="noStrike">
              <a:solidFill>
                <a:srgbClr val="000000"/>
              </a:solidFill>
              <a:latin typeface="Tahoma"/>
            </a:endParaRPr>
          </a:p>
          <a:p>
            <a:pPr lvl="1" marL="713160" indent="-27432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d calcium absorption</a:t>
            </a:r>
            <a:endParaRPr b="0" lang="en-US" sz="3200" spc="-1" strike="noStrike">
              <a:solidFill>
                <a:srgbClr val="000000"/>
              </a:solidFill>
              <a:latin typeface="Tahoma"/>
            </a:endParaRPr>
          </a:p>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Low body weight</a:t>
            </a:r>
            <a:endParaRPr b="0" lang="en-US" sz="3400" spc="-1" strike="noStrike">
              <a:solidFill>
                <a:srgbClr val="000000"/>
              </a:solidFill>
              <a:latin typeface="Tahoma"/>
            </a:endParaRPr>
          </a:p>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Bone density loss</a:t>
            </a:r>
            <a:endParaRPr b="0" lang="en-US" sz="3400" spc="-1" strike="noStrike">
              <a:solidFill>
                <a:srgbClr val="000000"/>
              </a:solidFill>
              <a:latin typeface="Tahoma"/>
            </a:endParaRPr>
          </a:p>
          <a:p>
            <a:pPr lvl="1" marL="713160" indent="-27432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d fractures</a:t>
            </a:r>
            <a:endParaRPr b="0" lang="en-US" sz="3200" spc="-1" strike="noStrike">
              <a:solidFill>
                <a:srgbClr val="000000"/>
              </a:solidFill>
              <a:latin typeface="Tahoma"/>
            </a:endParaRPr>
          </a:p>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Benefits of smoking cessation</a:t>
            </a: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Cornuz et al., 1999; Hollenbach et al., 1993; Mazess &amp; Barden 1991; Thomas, 1997; Wardlaw &amp; Weese, 1995</a:t>
            </a: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Heredity and Osteoporosis</a:t>
            </a:r>
            <a:endParaRPr b="0" lang="en-US" sz="3800" spc="-1" strike="noStrike">
              <a:solidFill>
                <a:srgbClr val="000000"/>
              </a:solidFill>
              <a:latin typeface="Comic Sans MS"/>
            </a:endParaRPr>
          </a:p>
        </p:txBody>
      </p:sp>
      <p:sp>
        <p:nvSpPr>
          <p:cNvPr id="181" name="PlaceHolder 2"/>
          <p:cNvSpPr>
            <a:spLocks noGrp="1"/>
          </p:cNvSpPr>
          <p:nvPr>
            <p:ph/>
          </p:nvPr>
        </p:nvSpPr>
        <p:spPr>
          <a:xfrm>
            <a:off x="1294920" y="2361960"/>
            <a:ext cx="7086600" cy="388620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Familial connection</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tics vs. environment</a:t>
            </a:r>
            <a:endParaRPr b="0" lang="en-US" sz="32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win studies</a:t>
            </a:r>
            <a:endParaRPr b="0" lang="en-US" sz="34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Mother-daughter studies</a:t>
            </a:r>
            <a:endParaRPr b="0" lang="en-US" sz="34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Lack of osteoporosis family history does not equate to lack of risk!</a:t>
            </a: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Lindsay &amp; Dempster, 1985; Slemenda et al., 1990; Snow-Harter &amp; Gillis, 1996; Tudor-Locke &amp; McColl, 2000</a:t>
            </a: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thnicity and Osteoporosis</a:t>
            </a:r>
            <a:endParaRPr b="0" lang="en-US" sz="3800" spc="-1" strike="noStrike">
              <a:solidFill>
                <a:srgbClr val="000000"/>
              </a:solidFill>
              <a:latin typeface="Comic Sans MS"/>
            </a:endParaRPr>
          </a:p>
        </p:txBody>
      </p:sp>
      <p:sp>
        <p:nvSpPr>
          <p:cNvPr id="183"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fontScale="97000"/>
          </a:bodyPr>
          <a:p>
            <a:pPr marL="332640" indent="-3326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Fracture risk</a:t>
            </a:r>
            <a:endParaRPr b="0" lang="en-US" sz="3400" spc="-1" strike="noStrike">
              <a:solidFill>
                <a:srgbClr val="000000"/>
              </a:solidFill>
              <a:latin typeface="Tahoma"/>
            </a:endParaRPr>
          </a:p>
          <a:p>
            <a:pPr lvl="1" marL="720720" indent="-27720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ucasian</a:t>
            </a:r>
            <a:endParaRPr b="0" lang="en-US" sz="3200" spc="-1" strike="noStrike">
              <a:solidFill>
                <a:srgbClr val="000000"/>
              </a:solidFill>
              <a:latin typeface="Tahoma"/>
            </a:endParaRPr>
          </a:p>
          <a:p>
            <a:pPr lvl="1" marL="720720" indent="-27720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ian </a:t>
            </a:r>
            <a:endParaRPr b="0" lang="en-US" sz="3200" spc="-1" strike="noStrike">
              <a:solidFill>
                <a:srgbClr val="000000"/>
              </a:solidFill>
              <a:latin typeface="Tahoma"/>
            </a:endParaRPr>
          </a:p>
          <a:p>
            <a:pPr lvl="2" marL="1108440" indent="-221400">
              <a:lnSpc>
                <a:spcPct val="90000"/>
              </a:lnSpc>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Lifestyle differences</a:t>
            </a:r>
            <a:endParaRPr b="0" lang="en-US" sz="3000" spc="-1" strike="noStrike">
              <a:solidFill>
                <a:srgbClr val="000000"/>
              </a:solidFill>
              <a:latin typeface="Tahoma"/>
            </a:endParaRPr>
          </a:p>
          <a:p>
            <a:pPr lvl="1" marL="720720" indent="-27720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rican American</a:t>
            </a:r>
            <a:endParaRPr b="0" lang="en-US" sz="3200" spc="-1" strike="noStrike">
              <a:solidFill>
                <a:srgbClr val="000000"/>
              </a:solidFill>
              <a:latin typeface="Tahoma"/>
            </a:endParaRPr>
          </a:p>
          <a:p>
            <a:pPr lvl="1" marL="720720" indent="-27720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panic</a:t>
            </a:r>
            <a:endParaRPr b="0" lang="en-US" sz="3200" spc="-1" strike="noStrike">
              <a:solidFill>
                <a:srgbClr val="000000"/>
              </a:solidFill>
              <a:latin typeface="Tahoma"/>
            </a:endParaRPr>
          </a:p>
          <a:p>
            <a:pPr marL="332640" indent="-3326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thnicity is more than skin color!</a:t>
            </a:r>
            <a:endParaRPr b="0" lang="en-US" sz="3400" spc="-1" strike="noStrike">
              <a:solidFill>
                <a:srgbClr val="000000"/>
              </a:solidFill>
              <a:latin typeface="Tahoma"/>
            </a:endParaRPr>
          </a:p>
        </p:txBody>
      </p:sp>
      <p:pic>
        <p:nvPicPr>
          <p:cNvPr id="184" name="" descr=""/>
          <p:cNvPicPr/>
          <p:nvPr/>
        </p:nvPicPr>
        <p:blipFill>
          <a:blip r:embed="rId1"/>
          <a:stretch/>
        </p:blipFill>
        <p:spPr>
          <a:xfrm>
            <a:off x="5756400" y="2133720"/>
            <a:ext cx="2890800" cy="2911320"/>
          </a:xfrm>
          <a:prstGeom prst="rect">
            <a:avLst/>
          </a:prstGeom>
          <a:ln w="0">
            <a:noFill/>
          </a:ln>
        </p:spPr>
      </p:pic>
      <p:sp>
        <p:nvSpPr>
          <p:cNvPr id="4" name="PlaceHolder 3"/>
          <p:cNvSpPr>
            <a:spLocks noGrp="1"/>
          </p:cNvSpPr>
          <p:nvPr>
            <p:ph type="ftr" idx="1"/>
          </p:nvPr>
        </p:nvSpPr>
        <p:spPr/>
        <p:txBody>
          <a:bodyPr/>
          <a:p>
            <a:r>
              <a:t>Fujita, 1994; Lau et al., 2001; Luckey et al., 1996; Mackelvie et al., 2001; Tudor-Locker &amp; McColl, 2000</a:t>
            </a: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Medical History and Osteoporosis</a:t>
            </a:r>
            <a:endParaRPr b="0" lang="en-US" sz="3800" spc="-1" strike="noStrike">
              <a:solidFill>
                <a:srgbClr val="000000"/>
              </a:solidFill>
              <a:latin typeface="Comic Sans MS"/>
            </a:endParaRPr>
          </a:p>
        </p:txBody>
      </p:sp>
      <p:sp>
        <p:nvSpPr>
          <p:cNvPr id="186"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orticosteroids/glucocorticoid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l conditions warranting use of steroid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mper bone formation</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cium malabsorption</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tectural integrity of bone</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for patient education</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astell, 1995; Lucasey, 2001; Reid, 1997; Yosipovitch et al., 2001; Walsh et al., 1996; Wong et al., 2000</a:t>
            </a: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Medical History and Osteoporosis</a:t>
            </a:r>
            <a:endParaRPr b="0" lang="en-US" sz="3800" spc="-1" strike="noStrike">
              <a:solidFill>
                <a:srgbClr val="000000"/>
              </a:solidFill>
              <a:latin typeface="Comic Sans MS"/>
            </a:endParaRPr>
          </a:p>
        </p:txBody>
      </p:sp>
      <p:sp>
        <p:nvSpPr>
          <p:cNvPr id="188"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epo-Provera (DMPA)</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aceptive technique</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de effects</a:t>
            </a:r>
            <a:endParaRPr b="0" lang="en-US" sz="30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bone density              loss</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with caution</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education</a:t>
            </a:r>
            <a:endParaRPr b="0" lang="en-US" sz="3200" spc="-1" strike="noStrike">
              <a:solidFill>
                <a:srgbClr val="000000"/>
              </a:solidFill>
              <a:latin typeface="Tahoma"/>
            </a:endParaRPr>
          </a:p>
        </p:txBody>
      </p:sp>
      <p:pic>
        <p:nvPicPr>
          <p:cNvPr id="189" name="" descr=""/>
          <p:cNvPicPr/>
          <p:nvPr/>
        </p:nvPicPr>
        <p:blipFill>
          <a:blip r:embed="rId1"/>
          <a:stretch/>
        </p:blipFill>
        <p:spPr>
          <a:xfrm>
            <a:off x="6629400" y="3809880"/>
            <a:ext cx="2324160" cy="2835360"/>
          </a:xfrm>
          <a:prstGeom prst="rect">
            <a:avLst/>
          </a:prstGeom>
          <a:ln w="0">
            <a:noFill/>
          </a:ln>
        </p:spPr>
      </p:pic>
      <p:sp>
        <p:nvSpPr>
          <p:cNvPr id="4" name="PlaceHolder 3"/>
          <p:cNvSpPr>
            <a:spLocks noGrp="1"/>
          </p:cNvSpPr>
          <p:nvPr>
            <p:ph type="ftr" idx="1"/>
          </p:nvPr>
        </p:nvSpPr>
        <p:spPr/>
        <p:txBody>
          <a:bodyPr/>
          <a:p>
            <a:r>
              <a:t>Cromer et al., 1996; Cundy &amp; Reid, 1997; Kass-Wolfe, 2001; Mark, 1994</a:t>
            </a: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Medical History and Osteoporosis</a:t>
            </a:r>
            <a:endParaRPr b="0" lang="en-US" sz="3800" spc="-1" strike="noStrike">
              <a:solidFill>
                <a:srgbClr val="000000"/>
              </a:solidFill>
              <a:latin typeface="Comic Sans MS"/>
            </a:endParaRPr>
          </a:p>
        </p:txBody>
      </p:sp>
      <p:sp>
        <p:nvSpPr>
          <p:cNvPr id="191"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Oral contraceptive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is controversial</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tudies citing positive impact</a:t>
            </a:r>
            <a:endParaRPr b="0" lang="en-US" sz="30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tudies citing lack of impact</a:t>
            </a:r>
            <a:endParaRPr b="0" lang="en-US" sz="30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up who might benefit from oral contraceptive use</a:t>
            </a:r>
            <a:endParaRPr b="0" lang="en-US" sz="3200" spc="-1" strike="noStrike">
              <a:solidFill>
                <a:srgbClr val="000000"/>
              </a:solidFill>
              <a:latin typeface="Tahoma"/>
            </a:endParaRPr>
          </a:p>
        </p:txBody>
      </p:sp>
      <p:pic>
        <p:nvPicPr>
          <p:cNvPr id="192" name="" descr=""/>
          <p:cNvPicPr/>
          <p:nvPr/>
        </p:nvPicPr>
        <p:blipFill>
          <a:blip r:embed="rId1"/>
          <a:stretch/>
        </p:blipFill>
        <p:spPr>
          <a:xfrm>
            <a:off x="7377120" y="5003640"/>
            <a:ext cx="1736640" cy="1659240"/>
          </a:xfrm>
          <a:prstGeom prst="rect">
            <a:avLst/>
          </a:prstGeom>
          <a:ln w="0">
            <a:noFill/>
          </a:ln>
        </p:spPr>
      </p:pic>
      <p:sp>
        <p:nvSpPr>
          <p:cNvPr id="4" name="PlaceHolder 3"/>
          <p:cNvSpPr>
            <a:spLocks noGrp="1"/>
          </p:cNvSpPr>
          <p:nvPr>
            <p:ph type="ftr" idx="1"/>
          </p:nvPr>
        </p:nvSpPr>
        <p:spPr/>
        <p:txBody>
          <a:bodyPr/>
          <a:p>
            <a:r>
              <a:t>Collins et al., 1988; Cooper et al., 1993; Kleerekoper et al., 1991; Van Winter &amp; Bernard, 1998</a:t>
            </a: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Medical History and Osteoporosis</a:t>
            </a:r>
            <a:endParaRPr b="0" lang="en-US" sz="3800" spc="-1" strike="noStrike">
              <a:solidFill>
                <a:srgbClr val="000000"/>
              </a:solidFill>
              <a:latin typeface="Comic Sans MS"/>
            </a:endParaRPr>
          </a:p>
        </p:txBody>
      </p:sp>
      <p:sp>
        <p:nvSpPr>
          <p:cNvPr id="194"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ating disorders</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orexia nervosa</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utritional intake</a:t>
            </a:r>
            <a:endParaRPr b="0" lang="en-US" sz="30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hysical activity</a:t>
            </a:r>
            <a:endParaRPr b="0" lang="en-US" sz="30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limia nervosa</a:t>
            </a:r>
            <a:endParaRPr b="0" lang="en-US" sz="32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menorrhea</a:t>
            </a:r>
            <a:endParaRPr b="0" lang="en-US" sz="3000" spc="-1" strike="noStrike">
              <a:solidFill>
                <a:srgbClr val="000000"/>
              </a:solidFill>
              <a:latin typeface="Tahoma"/>
            </a:endParaRPr>
          </a:p>
          <a:p>
            <a:pPr lvl="2" marL="1143000" indent="-228600">
              <a:spcBef>
                <a:spcPts val="75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evious anorexia nervosa</a:t>
            </a:r>
            <a:endParaRPr b="0" lang="en-US" sz="3000" spc="-1" strike="noStrike">
              <a:solidFill>
                <a:srgbClr val="000000"/>
              </a:solidFill>
              <a:latin typeface="Tahoma"/>
            </a:endParaRPr>
          </a:p>
        </p:txBody>
      </p:sp>
      <p:sp>
        <p:nvSpPr>
          <p:cNvPr id="4" name="PlaceHolder 3"/>
          <p:cNvSpPr>
            <a:spLocks noGrp="1"/>
          </p:cNvSpPr>
          <p:nvPr>
            <p:ph type="ftr" idx="1"/>
          </p:nvPr>
        </p:nvSpPr>
        <p:spPr/>
        <p:txBody>
          <a:bodyPr/>
          <a:p>
            <a:r>
              <a:t>Beals et al., 1999; Clark, 1997; Hartman et al., 2000; Seidenfeld &amp; Rickert, 2001; Treasure &amp; Serpell, 2001</a:t>
            </a: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Learning Objectives</a:t>
            </a:r>
            <a:endParaRPr b="0" lang="en-US" sz="3800" spc="-1" strike="noStrike">
              <a:solidFill>
                <a:srgbClr val="000000"/>
              </a:solidFill>
              <a:latin typeface="Comic Sans MS"/>
            </a:endParaRPr>
          </a:p>
        </p:txBody>
      </p:sp>
      <p:sp>
        <p:nvSpPr>
          <p:cNvPr id="130"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escribe the process of bone remodeling.</a:t>
            </a:r>
            <a:endParaRPr b="0" lang="en-US" sz="34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escribe the two types of bone tissue.</a:t>
            </a:r>
            <a:endParaRPr b="0" lang="en-US" sz="34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entify groups at risk for osteoporosis development.</a:t>
            </a:r>
            <a:endParaRPr b="0" lang="en-US" sz="3400" spc="-1" strike="noStrike">
              <a:solidFill>
                <a:srgbClr val="000000"/>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ummary</a:t>
            </a:r>
            <a:endParaRPr b="0" lang="en-US" sz="3800" spc="-1" strike="noStrike">
              <a:solidFill>
                <a:srgbClr val="000000"/>
              </a:solidFill>
              <a:latin typeface="Comic Sans MS"/>
            </a:endParaRPr>
          </a:p>
        </p:txBody>
      </p:sp>
      <p:sp>
        <p:nvSpPr>
          <p:cNvPr id="196"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Osteoporosis is multifaceted</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t, heredity, and ethnicity</a:t>
            </a:r>
            <a:endParaRPr b="0" lang="en-US" sz="32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festyle factors, medication use, and eating disorders</a:t>
            </a:r>
            <a:endParaRPr b="0" lang="en-US" sz="32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ducation and the dissemination of information is needed!</a:t>
            </a:r>
            <a:endParaRPr b="0" lang="en-US" sz="3400" spc="-1" strike="noStrike">
              <a:solidFill>
                <a:srgbClr val="000000"/>
              </a:solidFill>
              <a:latin typeface="Tahoma"/>
            </a:endParaRPr>
          </a:p>
        </p:txBody>
      </p:sp>
      <p:pic>
        <p:nvPicPr>
          <p:cNvPr id="197" name="" descr=""/>
          <p:cNvPicPr/>
          <p:nvPr/>
        </p:nvPicPr>
        <p:blipFill>
          <a:blip r:embed="rId1"/>
          <a:stretch/>
        </p:blipFill>
        <p:spPr>
          <a:xfrm>
            <a:off x="6400800" y="228600"/>
            <a:ext cx="2516040" cy="215100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Online Resources</a:t>
            </a:r>
            <a:endParaRPr b="0" lang="en-US" sz="3800" spc="-1" strike="noStrike">
              <a:solidFill>
                <a:srgbClr val="000000"/>
              </a:solidFill>
              <a:latin typeface="Comic Sans MS"/>
            </a:endParaRPr>
          </a:p>
        </p:txBody>
      </p:sp>
      <p:sp>
        <p:nvSpPr>
          <p:cNvPr id="199" name="PlaceHolder 2"/>
          <p:cNvSpPr>
            <a:spLocks noGrp="1"/>
          </p:cNvSpPr>
          <p:nvPr>
            <p:ph/>
          </p:nvPr>
        </p:nvSpPr>
        <p:spPr>
          <a:xfrm>
            <a:off x="1294920" y="2361960"/>
            <a:ext cx="75438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National Institutes of Health</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hlinkClick r:id="rId1"/>
              </a:rPr>
              <a:t>http://health.nih.gov/result.asp/488</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National Osteoporosis Foundation</a:t>
            </a:r>
            <a:endParaRPr b="0" lang="en-US" sz="3400" spc="-1" strike="noStrike">
              <a:solidFill>
                <a:srgbClr val="000000"/>
              </a:solidFill>
              <a:latin typeface="Tahoma"/>
            </a:endParaRPr>
          </a:p>
          <a:p>
            <a:pPr lvl="1" marL="743040" indent="-285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hlinkClick r:id="rId2"/>
              </a:rPr>
              <a:t>http://www.nof.org</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Learning Objectives</a:t>
            </a:r>
            <a:endParaRPr b="0" lang="en-US" sz="3800" spc="-1" strike="noStrike">
              <a:solidFill>
                <a:srgbClr val="000000"/>
              </a:solidFill>
              <a:latin typeface="Comic Sans MS"/>
            </a:endParaRPr>
          </a:p>
        </p:txBody>
      </p:sp>
      <p:sp>
        <p:nvSpPr>
          <p:cNvPr id="132"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entify positive and negative nutritional practices.</a:t>
            </a:r>
            <a:endParaRPr b="0" lang="en-US" sz="34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entify positive and negative lifestyle behaviors.</a:t>
            </a:r>
            <a:endParaRPr b="0" lang="en-US" sz="34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List medications that increase risk for osteoporosis development.</a:t>
            </a:r>
            <a:endParaRPr b="0" lang="en-US" sz="3400" spc="-1" strike="noStrike">
              <a:solidFill>
                <a:srgbClr val="000000"/>
              </a:solidFill>
              <a:latin typeface="Tahom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Introduction</a:t>
            </a:r>
            <a:endParaRPr b="0" lang="en-US" sz="3800" spc="-1" strike="noStrike">
              <a:solidFill>
                <a:srgbClr val="000000"/>
              </a:solidFill>
              <a:latin typeface="Comic Sans MS"/>
            </a:endParaRPr>
          </a:p>
        </p:txBody>
      </p:sp>
      <p:sp>
        <p:nvSpPr>
          <p:cNvPr id="134" name="PlaceHolder 2"/>
          <p:cNvSpPr>
            <a:spLocks noGrp="1"/>
          </p:cNvSpPr>
          <p:nvPr>
            <p:ph/>
          </p:nvPr>
        </p:nvSpPr>
        <p:spPr>
          <a:xfrm>
            <a:off x="1294920" y="2362320"/>
            <a:ext cx="7086600" cy="4114800"/>
          </a:xfrm>
          <a:prstGeom prst="rect">
            <a:avLst/>
          </a:prstGeom>
          <a:noFill/>
          <a:ln w="0">
            <a:noFill/>
          </a:ln>
        </p:spPr>
        <p:txBody>
          <a:bodyPr lIns="90000" rIns="90000" tIns="46800" bIns="46800" anchor="t">
            <a:normAutofit fontScale="98000"/>
          </a:bodyPr>
          <a:p>
            <a:pPr marL="335880" indent="-3358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Osteoporosis is a public health concern</a:t>
            </a:r>
            <a:endParaRPr b="0" lang="en-US" sz="3400" spc="-1" strike="noStrike">
              <a:solidFill>
                <a:srgbClr val="000000"/>
              </a:solidFill>
              <a:latin typeface="Tahoma"/>
            </a:endParaRPr>
          </a:p>
          <a:p>
            <a:pPr marL="335880" indent="-3358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pidemic levels</a:t>
            </a:r>
            <a:endParaRPr b="0" lang="en-US" sz="3400" spc="-1" strike="noStrike">
              <a:solidFill>
                <a:srgbClr val="000000"/>
              </a:solidFill>
              <a:latin typeface="Tahoma"/>
            </a:endParaRPr>
          </a:p>
          <a:p>
            <a:pPr marL="335880" indent="-3358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osts of bone fragility</a:t>
            </a:r>
            <a:endParaRPr b="0" lang="en-US" sz="3400" spc="-1" strike="noStrike">
              <a:solidFill>
                <a:srgbClr val="000000"/>
              </a:solidFill>
              <a:latin typeface="Tahoma"/>
            </a:endParaRPr>
          </a:p>
          <a:p>
            <a:pPr lvl="1" marL="727920" indent="-280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bidity, mortality, loss of function</a:t>
            </a:r>
            <a:endParaRPr b="0" lang="en-US" sz="3200" spc="-1" strike="noStrike">
              <a:solidFill>
                <a:srgbClr val="000000"/>
              </a:solidFill>
              <a:latin typeface="Tahoma"/>
            </a:endParaRPr>
          </a:p>
          <a:p>
            <a:pPr lvl="1" marL="727920" indent="-280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habilitation, institutionalization, cost of living</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Barefield, 1996; Boughton, 1999; Lappe, 1994; NIH, 2000; Turner, Taylor, &amp; Hunt, 1998; Ullom-Minnich, 1999</a:t>
            </a: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Introduction</a:t>
            </a:r>
            <a:endParaRPr b="0" lang="en-US" sz="3800" spc="-1" strike="noStrike">
              <a:solidFill>
                <a:srgbClr val="000000"/>
              </a:solidFill>
              <a:latin typeface="Comic Sans MS"/>
            </a:endParaRPr>
          </a:p>
        </p:txBody>
      </p:sp>
      <p:sp>
        <p:nvSpPr>
          <p:cNvPr id="136" name="PlaceHolder 2"/>
          <p:cNvSpPr>
            <a:spLocks noGrp="1"/>
          </p:cNvSpPr>
          <p:nvPr>
            <p:ph/>
          </p:nvPr>
        </p:nvSpPr>
        <p:spPr>
          <a:xfrm>
            <a:off x="1295280" y="2361960"/>
            <a:ext cx="4114800" cy="3352680"/>
          </a:xfrm>
          <a:prstGeom prst="rect">
            <a:avLst/>
          </a:prstGeom>
          <a:noFill/>
          <a:ln w="0">
            <a:noFill/>
          </a:ln>
        </p:spPr>
        <p:txBody>
          <a:bodyPr lIns="90000" rIns="90000" tIns="46800" bIns="46800" anchor="t">
            <a:normAutofit/>
          </a:bodyPr>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Multifactorial condition</a:t>
            </a:r>
            <a:r>
              <a:rPr b="0" lang="en-US" sz="3400" spc="-1" strike="noStrike">
                <a:solidFill>
                  <a:srgbClr val="000000"/>
                </a:solidFill>
                <a:latin typeface="Tahoma"/>
              </a:rPr>
              <a:t>	</a:t>
            </a:r>
            <a:endParaRPr b="0" lang="en-US" sz="3400" spc="-1" strike="noStrike">
              <a:solidFill>
                <a:srgbClr val="000000"/>
              </a:solidFill>
              <a:latin typeface="Tahoma"/>
            </a:endParaRPr>
          </a:p>
          <a:p>
            <a:pPr marL="343080" indent="-343080">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alled the </a:t>
            </a:r>
            <a:r>
              <a:rPr b="0" i="1" lang="en-US" sz="3400" spc="-1" strike="noStrike">
                <a:solidFill>
                  <a:srgbClr val="000000"/>
                </a:solidFill>
                <a:latin typeface="Tahoma"/>
              </a:rPr>
              <a:t>“silent thief”</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137" name="" descr=""/>
          <p:cNvPicPr/>
          <p:nvPr/>
        </p:nvPicPr>
        <p:blipFill>
          <a:blip r:embed="rId1"/>
          <a:stretch/>
        </p:blipFill>
        <p:spPr>
          <a:xfrm>
            <a:off x="5624640" y="2590920"/>
            <a:ext cx="2617560" cy="3128760"/>
          </a:xfrm>
          <a:prstGeom prst="rect">
            <a:avLst/>
          </a:prstGeom>
          <a:ln w="0">
            <a:noFill/>
          </a:ln>
        </p:spPr>
      </p:pic>
      <p:sp>
        <p:nvSpPr>
          <p:cNvPr id="4" name="PlaceHolder 3"/>
          <p:cNvSpPr>
            <a:spLocks noGrp="1"/>
          </p:cNvSpPr>
          <p:nvPr>
            <p:ph type="ftr" idx="1"/>
          </p:nvPr>
        </p:nvSpPr>
        <p:spPr/>
        <p:txBody>
          <a:bodyPr/>
          <a:p>
            <a:r>
              <a:t>Notelovitz, 1993; Siddiqui, Shetty, &amp; Duthie, 1999; Boughton, 1999; </a:t>
            </a: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Bone Remodeling</a:t>
            </a:r>
            <a:endParaRPr b="0" lang="en-US" sz="3800" spc="-1" strike="noStrike">
              <a:solidFill>
                <a:srgbClr val="000000"/>
              </a:solidFill>
              <a:latin typeface="Comic Sans MS"/>
            </a:endParaRPr>
          </a:p>
        </p:txBody>
      </p:sp>
      <p:sp>
        <p:nvSpPr>
          <p:cNvPr id="139" name="PlaceHolder 2"/>
          <p:cNvSpPr>
            <a:spLocks noGrp="1"/>
          </p:cNvSpPr>
          <p:nvPr>
            <p:ph/>
          </p:nvPr>
        </p:nvSpPr>
        <p:spPr>
          <a:xfrm>
            <a:off x="1294920" y="2361960"/>
            <a:ext cx="3962520" cy="404964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wo stages</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ation</a:t>
            </a:r>
            <a:endParaRPr b="0" lang="en-US" sz="32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rption</a:t>
            </a:r>
            <a:endParaRPr b="0" lang="en-US" sz="32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wo types of bone</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becular</a:t>
            </a:r>
            <a:endParaRPr b="0" lang="en-US" sz="32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tical</a:t>
            </a:r>
            <a:endParaRPr b="0" lang="en-US" sz="3200" spc="-1" strike="noStrike">
              <a:solidFill>
                <a:srgbClr val="000000"/>
              </a:solidFill>
              <a:latin typeface="Tahoma"/>
            </a:endParaRPr>
          </a:p>
        </p:txBody>
      </p:sp>
      <p:pic>
        <p:nvPicPr>
          <p:cNvPr id="140" name="" descr=""/>
          <p:cNvPicPr/>
          <p:nvPr/>
        </p:nvPicPr>
        <p:blipFill>
          <a:blip r:embed="rId1"/>
          <a:stretch/>
        </p:blipFill>
        <p:spPr>
          <a:xfrm>
            <a:off x="5029200" y="2590920"/>
            <a:ext cx="4040280" cy="2678040"/>
          </a:xfrm>
          <a:prstGeom prst="rect">
            <a:avLst/>
          </a:prstGeom>
          <a:ln w="0">
            <a:noFill/>
          </a:ln>
        </p:spPr>
      </p:pic>
      <p:sp>
        <p:nvSpPr>
          <p:cNvPr id="4" name="PlaceHolder 3"/>
          <p:cNvSpPr>
            <a:spLocks noGrp="1"/>
          </p:cNvSpPr>
          <p:nvPr>
            <p:ph type="ftr" idx="1"/>
          </p:nvPr>
        </p:nvSpPr>
        <p:spPr/>
        <p:txBody>
          <a:bodyPr/>
          <a:p>
            <a:r>
              <a:t>Boughton, 1999; Notelovitz, 1993; PDR, 1999; Smith, 1993; Wardlaw, 1993</a:t>
            </a: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Types of Osteoporosis</a:t>
            </a:r>
            <a:endParaRPr b="0" lang="en-US" sz="3800" spc="-1" strike="noStrike">
              <a:solidFill>
                <a:srgbClr val="000000"/>
              </a:solidFill>
              <a:latin typeface="Comic Sans MS"/>
            </a:endParaRPr>
          </a:p>
        </p:txBody>
      </p:sp>
      <p:sp>
        <p:nvSpPr>
          <p:cNvPr id="142" name="PlaceHolder 2"/>
          <p:cNvSpPr>
            <a:spLocks noGrp="1"/>
          </p:cNvSpPr>
          <p:nvPr>
            <p:ph/>
          </p:nvPr>
        </p:nvSpPr>
        <p:spPr>
          <a:xfrm>
            <a:off x="1294920" y="2361960"/>
            <a:ext cx="7086600" cy="388620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rimary</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th genders</a:t>
            </a:r>
            <a:endParaRPr b="0" lang="en-US" sz="32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 I</a:t>
            </a:r>
            <a:endParaRPr b="0" lang="en-US" sz="32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 II</a:t>
            </a:r>
            <a:endParaRPr b="0" lang="en-US" sz="3200" spc="-1" strike="noStrike">
              <a:solidFill>
                <a:srgbClr val="000000"/>
              </a:solidFill>
              <a:latin typeface="Tahoma"/>
            </a:endParaRPr>
          </a:p>
          <a:p>
            <a:pPr marL="343080" indent="-34308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econdary</a:t>
            </a:r>
            <a:endParaRPr b="0" lang="en-US" sz="3400" spc="-1" strike="noStrike">
              <a:solidFill>
                <a:srgbClr val="000000"/>
              </a:solidFill>
              <a:latin typeface="Tahoma"/>
            </a:endParaRPr>
          </a:p>
          <a:p>
            <a:pPr lvl="1" marL="743040" indent="-2858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 of other disease or medication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Donohue, 1999; Glaser &amp; Kaplan, 1997; Kulak, et al., 2000; NIH, 2000; NOF, 2000;  Peterson, 2001</a:t>
            </a: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2189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Osteoporosis: Who it Targets!</a:t>
            </a:r>
            <a:endParaRPr b="0" lang="en-US" sz="3800" spc="-1" strike="noStrike">
              <a:solidFill>
                <a:srgbClr val="000000"/>
              </a:solidFill>
              <a:latin typeface="Comic Sans MS"/>
            </a:endParaRPr>
          </a:p>
        </p:txBody>
      </p:sp>
      <p:sp>
        <p:nvSpPr>
          <p:cNvPr id="144" name="PlaceHolder 2"/>
          <p:cNvSpPr>
            <a:spLocks noGrp="1"/>
          </p:cNvSpPr>
          <p:nvPr>
            <p:ph/>
          </p:nvPr>
        </p:nvSpPr>
        <p:spPr>
          <a:xfrm>
            <a:off x="1294920" y="2361960"/>
            <a:ext cx="7086600" cy="4049640"/>
          </a:xfrm>
          <a:prstGeom prst="rect">
            <a:avLst/>
          </a:prstGeom>
          <a:noFill/>
          <a:ln w="0">
            <a:noFill/>
          </a:ln>
        </p:spPr>
        <p:txBody>
          <a:bodyPr lIns="90000" rIns="90000" tIns="46800" bIns="46800" anchor="t">
            <a:normAutofit fontScale="96000"/>
          </a:bodyPr>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Gender</a:t>
            </a:r>
            <a:endParaRPr b="0" lang="en-US" sz="3400" spc="-1" strike="noStrike">
              <a:solidFill>
                <a:srgbClr val="000000"/>
              </a:solidFill>
              <a:latin typeface="Tahoma"/>
            </a:endParaRPr>
          </a:p>
          <a:p>
            <a:pPr lvl="1" marL="713160" indent="-27432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th men and women</a:t>
            </a:r>
            <a:endParaRPr b="0" lang="en-US" sz="3200" spc="-1" strike="noStrike">
              <a:solidFill>
                <a:srgbClr val="000000"/>
              </a:solidFill>
              <a:latin typeface="Tahoma"/>
            </a:endParaRPr>
          </a:p>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ge</a:t>
            </a:r>
            <a:endParaRPr b="0" lang="en-US" sz="3400" spc="-1" strike="noStrike">
              <a:solidFill>
                <a:srgbClr val="000000"/>
              </a:solidFill>
              <a:latin typeface="Tahoma"/>
            </a:endParaRPr>
          </a:p>
          <a:p>
            <a:pPr lvl="1" marL="713160" indent="-27432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in early 20s and 30s</a:t>
            </a:r>
            <a:endParaRPr b="0" lang="en-US" sz="3200" spc="-1" strike="noStrike">
              <a:solidFill>
                <a:srgbClr val="000000"/>
              </a:solidFill>
              <a:latin typeface="Tahoma"/>
            </a:endParaRPr>
          </a:p>
          <a:p>
            <a:pPr marL="329040" indent="-329040">
              <a:lnSpc>
                <a:spcPct val="90000"/>
              </a:lnSpc>
              <a:spcBef>
                <a:spcPts val="85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Risk factors</a:t>
            </a:r>
            <a:endParaRPr b="0" lang="en-US" sz="3400" spc="-1" strike="noStrike">
              <a:solidFill>
                <a:srgbClr val="000000"/>
              </a:solidFill>
              <a:latin typeface="Tahoma"/>
            </a:endParaRPr>
          </a:p>
          <a:p>
            <a:pPr lvl="1" marL="713160" indent="-27432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k is not age or gender dependent</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Aufdemorte, 1991; Hart &amp; Dip, 1996; Hsieh, et al., 2001; Mark &amp; Link, 1999; Moon, 2000; Tokar, et al., 2003</a:t>
            </a: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20:18:54Z</dcterms:created>
  <dc:creator>S31239</dc:creator>
  <dc:description/>
  <dc:language>en-US</dc:language>
  <cp:lastModifiedBy>S28537</cp:lastModifiedBy>
  <dcterms:modified xsi:type="dcterms:W3CDTF">2004-08-31T22:01:44Z</dcterms:modified>
  <cp:revision>12</cp:revision>
  <dc:subject/>
  <dc:title>Osteoporosis: It’s More Than Calcium</dc:title>
</cp:coreProperties>
</file>